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803-1441-4A16-9E8D-8F6BF915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DEC-A6E7-4BC4-B2A4-1D4DDA7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195-BFA9-4462-8087-36E62390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46E-2E0E-41CE-9B04-761B5D00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BAA-C7BE-490B-B652-36C7C47A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1D7-14E3-4570-8E60-F6AC895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125-2BAD-497C-B840-EFEDEF8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A43-A217-4CD5-84B5-A4DD0F39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B36-F45A-4311-8F06-E9490C85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E76-940C-4E5D-8B15-2DA49E4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68B-731F-432E-9B26-70EABF5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EE3-023E-4D32-B5DA-8ABAE6A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571-9EC6-492D-9D7C-1C51F39C0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argiulo_6e_Box 4.1.jpg"/>
          <p:cNvPicPr/>
          <p:nvPr/>
        </p:nvPicPr>
        <p:blipFill>
          <a:blip r:embed="rId1"/>
          <a:stretch/>
        </p:blipFill>
        <p:spPr>
          <a:xfrm>
            <a:off x="608040" y="0"/>
            <a:ext cx="792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Gargiulo_6e_Photo 4.1.jpg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Gargiulo_6e_Photo 4.2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Gargiulo_6e_Photo 4.3.jpg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Gargiulo_6e_Photo 4.4.jpg"/>
          <p:cNvPicPr/>
          <p:nvPr/>
        </p:nvPicPr>
        <p:blipFill>
          <a:blip r:embed="rId1"/>
          <a:stretch/>
        </p:blipFill>
        <p:spPr>
          <a:xfrm>
            <a:off x="2367000" y="0"/>
            <a:ext cx="44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Gargiulo_6e_Photo 4.5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Gargiulo_6e_Photo 4.6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Gargiulo_6e_Photo 4.7.jpg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argiulo_6e_Photo 4.8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Gargiulo_6e_Box 4.2.jpg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Gargiulo_6e_Box 4.3.jpg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65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argiulo_6e_Figure 4.1.jpg"/>
          <p:cNvPicPr/>
          <p:nvPr/>
        </p:nvPicPr>
        <p:blipFill>
          <a:blip r:embed="rId1"/>
          <a:stretch/>
        </p:blipFill>
        <p:spPr>
          <a:xfrm>
            <a:off x="3300480" y="0"/>
            <a:ext cx="254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Gargiulo_6e_Figure 4.2.jpg"/>
          <p:cNvPicPr/>
          <p:nvPr/>
        </p:nvPicPr>
        <p:blipFill>
          <a:blip r:embed="rId1"/>
          <a:stretch/>
        </p:blipFill>
        <p:spPr>
          <a:xfrm>
            <a:off x="121284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Gargiulo_6e_Figure 4.3.jpg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Gargiulo_6e_Table 4.1.jpg"/>
          <p:cNvPicPr/>
          <p:nvPr/>
        </p:nvPicPr>
        <p:blipFill>
          <a:blip r:embed="rId1"/>
          <a:stretch/>
        </p:blipFill>
        <p:spPr>
          <a:xfrm>
            <a:off x="228600" y="0"/>
            <a:ext cx="868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Gargiulo_6e_Table 4.2.jpg"/>
          <p:cNvPicPr/>
          <p:nvPr/>
        </p:nvPicPr>
        <p:blipFill>
          <a:blip r:embed="rId1"/>
          <a:stretch/>
        </p:blipFill>
        <p:spPr>
          <a:xfrm>
            <a:off x="1106640" y="0"/>
            <a:ext cx="693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Gargiulo_6e_Table 4.3.jpg"/>
          <p:cNvPicPr/>
          <p:nvPr/>
        </p:nvPicPr>
        <p:blipFill>
          <a:blip r:embed="rId1"/>
          <a:stretch/>
        </p:blipFill>
        <p:spPr>
          <a:xfrm>
            <a:off x="793800" y="0"/>
            <a:ext cx="75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10:36:29Z</dcterms:created>
  <dc:creator>Meenakshi_CMT162</dc:creator>
  <dc:description/>
  <dc:language>en-US</dc:language>
  <cp:lastModifiedBy>Meenakshi_CMT162</cp:lastModifiedBy>
  <dcterms:modified xsi:type="dcterms:W3CDTF">2016-12-27T10:38:35Z</dcterms:modified>
  <cp:revision>1</cp:revision>
  <dc:subject/>
  <dc:title>Slide 1</dc:title>
</cp:coreProperties>
</file>