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3EF7-98DE-44E3-9D79-466DDE3F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B07C-2F0B-45A3-BFBC-B81E7B13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79DA-C41B-4E45-A690-D289DF88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13A6-C9E3-4A17-B3FE-9EB52F26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644-2CFA-4539-B7E7-3AAC1F7F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FA0-77C1-4E5B-BFD6-94B9643F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2CD-609F-444B-9F6C-023A0534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F7DF-4D5D-4CD9-92D6-0B31709B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C27F-9476-419B-AE14-8067C3BA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475C-26B9-4346-9689-AAB75E3E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3251-9920-4E18-954D-9CC5A67F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FCCC-66D4-45F0-9D7F-58280D81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DD01-7DC0-4D68-82C8-C28817220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hernotsky_2e_Box 12.1.jpg"/>
          <p:cNvPicPr/>
          <p:nvPr/>
        </p:nvPicPr>
        <p:blipFill>
          <a:blip r:embed="rId1"/>
          <a:stretch/>
        </p:blipFill>
        <p:spPr>
          <a:xfrm>
            <a:off x="0" y="1623960"/>
            <a:ext cx="91440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hernotsky_2e_Box 12.2.jpg"/>
          <p:cNvPicPr/>
          <p:nvPr/>
        </p:nvPicPr>
        <p:blipFill>
          <a:blip r:embed="rId1"/>
          <a:stretch/>
        </p:blipFill>
        <p:spPr>
          <a:xfrm>
            <a:off x="0" y="1890720"/>
            <a:ext cx="9144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ernotsky_2e_Box 12.3.jpg"/>
          <p:cNvPicPr/>
          <p:nvPr/>
        </p:nvPicPr>
        <p:blipFill>
          <a:blip r:embed="rId1"/>
          <a:stretch/>
        </p:blipFill>
        <p:spPr>
          <a:xfrm>
            <a:off x="0" y="1612800"/>
            <a:ext cx="914400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ernotsky_2e_Box 12.4.jpg"/>
          <p:cNvPicPr/>
          <p:nvPr/>
        </p:nvPicPr>
        <p:blipFill>
          <a:blip r:embed="rId1"/>
          <a:stretch/>
        </p:blipFill>
        <p:spPr>
          <a:xfrm>
            <a:off x="0" y="1625760"/>
            <a:ext cx="9144000" cy="36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ernotsky_2e_Box 12.5.jpg"/>
          <p:cNvPicPr/>
          <p:nvPr/>
        </p:nvPicPr>
        <p:blipFill>
          <a:blip r:embed="rId1"/>
          <a:stretch/>
        </p:blipFill>
        <p:spPr>
          <a:xfrm>
            <a:off x="1863720" y="0"/>
            <a:ext cx="541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ernotsky_2e_Figure 12.1.jpg"/>
          <p:cNvPicPr/>
          <p:nvPr/>
        </p:nvPicPr>
        <p:blipFill>
          <a:blip r:embed="rId1"/>
          <a:stretch/>
        </p:blipFill>
        <p:spPr>
          <a:xfrm>
            <a:off x="0" y="806400"/>
            <a:ext cx="91440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ernotsky_2e_Table 12.1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10:22:44Z</dcterms:created>
  <dc:creator>conversion</dc:creator>
  <dc:description/>
  <dc:language>en-US</dc:language>
  <cp:lastModifiedBy>conversion</cp:lastModifiedBy>
  <dcterms:modified xsi:type="dcterms:W3CDTF">2015-01-31T10:23:00Z</dcterms:modified>
  <cp:revision>1</cp:revision>
  <dc:subject/>
  <dc:title>Slide 1</dc:title>
</cp:coreProperties>
</file>