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A037A-B9F1-4870-95E9-6E9753538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AA076-3211-4257-A8F1-7F5ED06B4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71811-2AB4-43A3-A268-B9B669674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A46BE-9E96-4DC7-870C-D58EDB4A9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46CAA-66A2-4680-8DE3-C843170B9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B7158-AAE0-4C4D-9DBF-0FA3945A0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060A9-E576-4521-8CBC-AA343FF2C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46859-EDF7-45E1-BC0E-A79FC40DF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36B7E-963E-40E0-B845-ADECCD5DF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D43B7-BD66-4812-98FA-668C43010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728AF-C991-4293-A918-8BDD227CE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7278D-1995-4CDD-A36E-F39D12484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67B4B-7EF2-4D6E-924A-2C757CA579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Chernotsky_2e_Box 10.1.jpg"/>
          <p:cNvPicPr/>
          <p:nvPr/>
        </p:nvPicPr>
        <p:blipFill>
          <a:blip r:embed="rId1"/>
          <a:stretch/>
        </p:blipFill>
        <p:spPr>
          <a:xfrm>
            <a:off x="1933560" y="0"/>
            <a:ext cx="5276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Chernotsky_2e_Box 10.2.jpg"/>
          <p:cNvPicPr/>
          <p:nvPr/>
        </p:nvPicPr>
        <p:blipFill>
          <a:blip r:embed="rId1"/>
          <a:stretch/>
        </p:blipFill>
        <p:spPr>
          <a:xfrm>
            <a:off x="0" y="376200"/>
            <a:ext cx="9144000" cy="610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Chernotsky_2e_Box 10.3.jpg"/>
          <p:cNvPicPr/>
          <p:nvPr/>
        </p:nvPicPr>
        <p:blipFill>
          <a:blip r:embed="rId1"/>
          <a:stretch/>
        </p:blipFill>
        <p:spPr>
          <a:xfrm>
            <a:off x="1401840" y="0"/>
            <a:ext cx="6338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Chernotsky_2e_Figure 10.1.jpg"/>
          <p:cNvPicPr/>
          <p:nvPr/>
        </p:nvPicPr>
        <p:blipFill>
          <a:blip r:embed="rId1"/>
          <a:stretch/>
        </p:blipFill>
        <p:spPr>
          <a:xfrm>
            <a:off x="1824120" y="0"/>
            <a:ext cx="5494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Chernotsky_2e_Figure 10.2.jpg"/>
          <p:cNvPicPr/>
          <p:nvPr/>
        </p:nvPicPr>
        <p:blipFill>
          <a:blip r:embed="rId1"/>
          <a:stretch/>
        </p:blipFill>
        <p:spPr>
          <a:xfrm>
            <a:off x="1222200" y="0"/>
            <a:ext cx="6697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" descr="Chernotsky_2e_Table 10.1.jpg"/>
          <p:cNvPicPr/>
          <p:nvPr/>
        </p:nvPicPr>
        <p:blipFill>
          <a:blip r:embed="rId1"/>
          <a:stretch/>
        </p:blipFill>
        <p:spPr>
          <a:xfrm>
            <a:off x="819000" y="0"/>
            <a:ext cx="7506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" descr="Chernotsky_2e_Map 10.1.jpg"/>
          <p:cNvPicPr/>
          <p:nvPr/>
        </p:nvPicPr>
        <p:blipFill>
          <a:blip r:embed="rId1"/>
          <a:stretch/>
        </p:blipFill>
        <p:spPr>
          <a:xfrm>
            <a:off x="887400" y="0"/>
            <a:ext cx="7369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Chernotsky_2e_Map 10.2.jpg"/>
          <p:cNvPicPr/>
          <p:nvPr/>
        </p:nvPicPr>
        <p:blipFill>
          <a:blip r:embed="rId1"/>
          <a:stretch/>
        </p:blipFill>
        <p:spPr>
          <a:xfrm>
            <a:off x="1922400" y="0"/>
            <a:ext cx="5297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31T10:17:01Z</dcterms:created>
  <dc:creator>conversion</dc:creator>
  <dc:description/>
  <dc:language>en-US</dc:language>
  <cp:lastModifiedBy>conversion</cp:lastModifiedBy>
  <dcterms:modified xsi:type="dcterms:W3CDTF">2015-01-31T10:17:21Z</dcterms:modified>
  <cp:revision>1</cp:revision>
  <dc:subject/>
  <dc:title>Slide 1</dc:title>
</cp:coreProperties>
</file>