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A5E-2363-4888-8C00-38F85D7A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25A-6A4D-4C61-805B-F3AF523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A6C-5DC9-4356-A3A7-71DF5223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873-2009-440C-925A-69FE6965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C92-1A4C-4636-8C0B-ED548FD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071-A2B2-4225-B00E-2228CAC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864-4CBE-47C8-9282-77FC4776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C37-21E9-4FBC-947C-1BA06C7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924-4769-42BF-9657-2F833FB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D1E-0AC2-44E0-91DD-42D8C3B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ABB-0A3F-401A-83A5-925FDC8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A30-4292-4B86-96D0-90F812C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F51-2106-4E30-801A-8BB1937D9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7.1.jpg"/>
          <p:cNvPicPr/>
          <p:nvPr/>
        </p:nvPicPr>
        <p:blipFill>
          <a:blip r:embed="rId1"/>
          <a:stretch/>
        </p:blipFill>
        <p:spPr>
          <a:xfrm>
            <a:off x="186048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Map 7.1.jpg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Figure 7.1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Figure 7.2.jpg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Figure 7.3.jpg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Table 7.1.jpg"/>
          <p:cNvPicPr/>
          <p:nvPr/>
        </p:nvPicPr>
        <p:blipFill>
          <a:blip r:embed="rId1"/>
          <a:stretch/>
        </p:blipFill>
        <p:spPr>
          <a:xfrm>
            <a:off x="625320" y="0"/>
            <a:ext cx="789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Table 7.2.jpg"/>
          <p:cNvPicPr/>
          <p:nvPr/>
        </p:nvPicPr>
        <p:blipFill>
          <a:blip r:embed="rId1"/>
          <a:stretch/>
        </p:blipFill>
        <p:spPr>
          <a:xfrm>
            <a:off x="511200" y="0"/>
            <a:ext cx="81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Table 7.3.jpg"/>
          <p:cNvPicPr/>
          <p:nvPr/>
        </p:nvPicPr>
        <p:blipFill>
          <a:blip r:embed="rId1"/>
          <a:stretch/>
        </p:blipFill>
        <p:spPr>
          <a:xfrm>
            <a:off x="172728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Table 7.3(Continued).jpg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Table 7.4.jpg"/>
          <p:cNvPicPr/>
          <p:nvPr/>
        </p:nvPicPr>
        <p:blipFill>
          <a:blip r:embed="rId1"/>
          <a:stretch/>
        </p:blipFill>
        <p:spPr>
          <a:xfrm>
            <a:off x="1366920" y="0"/>
            <a:ext cx="64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54:50Z</dcterms:created>
  <dc:creator>conversion</dc:creator>
  <dc:description/>
  <dc:language>en-US</dc:language>
  <cp:lastModifiedBy>conversion</cp:lastModifiedBy>
  <dcterms:modified xsi:type="dcterms:W3CDTF">2015-01-31T09:55:19Z</dcterms:modified>
  <cp:revision>1</cp:revision>
  <dc:subject/>
  <dc:title>Slide 1</dc:title>
</cp:coreProperties>
</file>