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6AF-D85D-42CD-87F4-9AB9C618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395-89B3-42C4-84C6-5E588152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688-E3D8-47FF-A2EC-08713F1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623-D25E-42F7-BC94-3A28AAC8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35C-FA74-47B1-BD8D-F7500B8D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CD-F683-46C1-8BDC-E745C13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F3A-CE05-4C95-920D-0B3B4ECD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CC1-5924-4287-9867-3E78CA5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C75-323F-4C96-877A-085F204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BB7-6265-4765-B652-D4A9C1A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09F-7B6E-4AAE-ABDD-11C5756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E64-16DE-421F-AA13-81B4221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CB4-EC55-469F-8EB7-FFA334D5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15.1.jpg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15.2.jpg"/>
          <p:cNvPicPr/>
          <p:nvPr/>
        </p:nvPicPr>
        <p:blipFill>
          <a:blip r:embed="rId1"/>
          <a:stretch/>
        </p:blipFill>
        <p:spPr>
          <a:xfrm>
            <a:off x="111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15.3.jpg"/>
          <p:cNvPicPr/>
          <p:nvPr/>
        </p:nvPicPr>
        <p:blipFill>
          <a:blip r:embed="rId1"/>
          <a:stretch/>
        </p:blipFill>
        <p:spPr>
          <a:xfrm>
            <a:off x="201600" y="0"/>
            <a:ext cx="873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Box 15.4.jpg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Infographics 15.1.jpg"/>
          <p:cNvPicPr/>
          <p:nvPr/>
        </p:nvPicPr>
        <p:blipFill>
          <a:blip r:embed="rId1"/>
          <a:stretch/>
        </p:blipFill>
        <p:spPr>
          <a:xfrm>
            <a:off x="190008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36:26Z</dcterms:created>
  <dc:creator>conversion</dc:creator>
  <dc:description/>
  <dc:language>en-US</dc:language>
  <cp:lastModifiedBy>conversion</cp:lastModifiedBy>
  <dcterms:modified xsi:type="dcterms:W3CDTF">2015-01-14T06:36:41Z</dcterms:modified>
  <cp:revision>1</cp:revision>
  <dc:subject/>
  <dc:title>Slide 1</dc:title>
</cp:coreProperties>
</file>