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E76-C9CF-4A54-BA18-BD90D59E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F07-E87F-4D00-A184-51E5DF7D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F0E-7FE9-4D24-9F40-07776A46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E55-DB95-4F05-AB5F-CBD3B54D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803-5CE7-494A-8DDE-35F9AE16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239-0D6E-4A69-AA02-1E0533DE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970-D8B7-4FC8-BFEF-793897C1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D97-BDC1-4BE3-9C1C-2B622D90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9E7-044F-4219-962C-71F522C1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09A-AC75-4D2C-8315-F377D589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359-CFF1-46ED-A9D7-089ACBA2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F5F-AF49-4668-B019-0F301CC5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39B2-D4CB-47CC-B3E4-6E1F5B969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ollier_4e_Box 11.1.jpg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ollier_4e_Box 11.2.jpg"/>
          <p:cNvPicPr/>
          <p:nvPr/>
        </p:nvPicPr>
        <p:blipFill>
          <a:blip r:embed="rId1"/>
          <a:stretch/>
        </p:blipFill>
        <p:spPr>
          <a:xfrm>
            <a:off x="1897200" y="0"/>
            <a:ext cx="534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ollier_4e_Box 11.3.jpg"/>
          <p:cNvPicPr/>
          <p:nvPr/>
        </p:nvPicPr>
        <p:blipFill>
          <a:blip r:embed="rId1"/>
          <a:stretch/>
        </p:blipFill>
        <p:spPr>
          <a:xfrm>
            <a:off x="627120" y="0"/>
            <a:ext cx="788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ollier_4e_Infographics 11.1.jpg"/>
          <p:cNvPicPr/>
          <p:nvPr/>
        </p:nvPicPr>
        <p:blipFill>
          <a:blip r:embed="rId1"/>
          <a:stretch/>
        </p:blipFill>
        <p:spPr>
          <a:xfrm>
            <a:off x="1886040" y="0"/>
            <a:ext cx="537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ollier_4e_Table 11.1.jpg"/>
          <p:cNvPicPr/>
          <p:nvPr/>
        </p:nvPicPr>
        <p:blipFill>
          <a:blip r:embed="rId1"/>
          <a:stretch/>
        </p:blipFill>
        <p:spPr>
          <a:xfrm>
            <a:off x="0" y="773280"/>
            <a:ext cx="9144000" cy="53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ollier_4e_Table 11.2.jpg"/>
          <p:cNvPicPr/>
          <p:nvPr/>
        </p:nvPicPr>
        <p:blipFill>
          <a:blip r:embed="rId1"/>
          <a:stretch/>
        </p:blipFill>
        <p:spPr>
          <a:xfrm>
            <a:off x="0" y="92232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53:06Z</dcterms:created>
  <dc:creator>conversion</dc:creator>
  <dc:description/>
  <dc:language>en-US</dc:language>
  <cp:lastModifiedBy>conversion</cp:lastModifiedBy>
  <dcterms:modified xsi:type="dcterms:W3CDTF">2015-01-14T05:54:51Z</dcterms:modified>
  <cp:revision>1</cp:revision>
  <dc:subject/>
  <dc:title>Slide 1</dc:title>
</cp:coreProperties>
</file>