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7837-1EFB-4D59-8E09-88B1A84BB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9150-B949-42F7-B15D-1E8FC997E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76FC-6FDE-48C3-8363-22DB64988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54F4-3258-49F8-92D6-ECB481CE1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7055-16C1-4233-AB61-E5CC79360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149E-7716-4BB3-9573-E5CB2E1BC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7C59-A09F-4EC1-AD89-610042685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4B29-295D-4B38-83FC-9137605CD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A5CB-3EA9-48B6-91AB-1FCDB9248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6945-A802-461D-9145-425CC210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2CFB-8A7A-45E6-8E7B-2E78B83A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B30E-DACA-4595-A94C-AAA26629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BC45E-6987-491D-B827-040763973C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Collier_4e_Box 5.1.jpg"/>
          <p:cNvPicPr/>
          <p:nvPr/>
        </p:nvPicPr>
        <p:blipFill>
          <a:blip r:embed="rId1"/>
          <a:stretch/>
        </p:blipFill>
        <p:spPr>
          <a:xfrm>
            <a:off x="1690560" y="0"/>
            <a:ext cx="576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Collier_4e_Box 5.2.jpg"/>
          <p:cNvPicPr/>
          <p:nvPr/>
        </p:nvPicPr>
        <p:blipFill>
          <a:blip r:embed="rId1"/>
          <a:stretch/>
        </p:blipFill>
        <p:spPr>
          <a:xfrm>
            <a:off x="825480" y="0"/>
            <a:ext cx="7493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ollier_4e_Map 5.1.jpg"/>
          <p:cNvPicPr/>
          <p:nvPr/>
        </p:nvPicPr>
        <p:blipFill>
          <a:blip r:embed="rId1"/>
          <a:stretch/>
        </p:blipFill>
        <p:spPr>
          <a:xfrm>
            <a:off x="27000" y="0"/>
            <a:ext cx="909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Collier_4e_Infographics 5.1.jpg"/>
          <p:cNvPicPr/>
          <p:nvPr/>
        </p:nvPicPr>
        <p:blipFill>
          <a:blip r:embed="rId1"/>
          <a:stretch/>
        </p:blipFill>
        <p:spPr>
          <a:xfrm>
            <a:off x="1878120" y="0"/>
            <a:ext cx="5386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Collier_4e_Table 5.1.jpg"/>
          <p:cNvPicPr/>
          <p:nvPr/>
        </p:nvPicPr>
        <p:blipFill>
          <a:blip r:embed="rId1"/>
          <a:stretch/>
        </p:blipFill>
        <p:spPr>
          <a:xfrm>
            <a:off x="0" y="1835280"/>
            <a:ext cx="914400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Collier_4e_Table 5.2.jpg"/>
          <p:cNvPicPr/>
          <p:nvPr/>
        </p:nvPicPr>
        <p:blipFill>
          <a:blip r:embed="rId1"/>
          <a:stretch/>
        </p:blipFill>
        <p:spPr>
          <a:xfrm>
            <a:off x="1739880" y="0"/>
            <a:ext cx="5664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Collier_4e_Table 5.2(Continued).jpg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1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4T05:38:05Z</dcterms:created>
  <dc:creator>conversion</dc:creator>
  <dc:description/>
  <dc:language>en-US</dc:language>
  <cp:lastModifiedBy>conversion</cp:lastModifiedBy>
  <dcterms:modified xsi:type="dcterms:W3CDTF">2015-01-14T05:38:53Z</dcterms:modified>
  <cp:revision>1</cp:revision>
  <dc:subject/>
  <dc:title>Slide 1</dc:title>
</cp:coreProperties>
</file>