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8D3-B323-4DF5-9A8D-878A97F0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1E4-473A-49D6-BD2A-EDCF0050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B91-6003-42B6-AA64-E104244A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CBF-BF3F-406F-B5C4-0F0F27B7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296-BC56-40BD-BE43-6C4A0419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E71-650A-4741-A088-9E5CBBB6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7BB-30A1-4231-81D6-9EBE975D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E79-18E6-4DC7-9AAC-8D3FA9E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A71-F8C7-46EE-86AD-96AB03E3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73F-619A-4A29-98AD-1702AAB2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BC9-9975-4E07-8D46-489EDFA2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21F-B77B-4FFD-AD08-29EF7DB0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262D-1E68-42E0-8982-2C5624D16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ollier_4e_Box 4.1.jpg"/>
          <p:cNvPicPr/>
          <p:nvPr/>
        </p:nvPicPr>
        <p:blipFill>
          <a:blip r:embed="rId1"/>
          <a:stretch/>
        </p:blipFill>
        <p:spPr>
          <a:xfrm>
            <a:off x="15256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ollier_4e_Box 4.2.jpg"/>
          <p:cNvPicPr/>
          <p:nvPr/>
        </p:nvPicPr>
        <p:blipFill>
          <a:blip r:embed="rId1"/>
          <a:stretch/>
        </p:blipFill>
        <p:spPr>
          <a:xfrm>
            <a:off x="909720" y="0"/>
            <a:ext cx="73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ollier_4e_Box 4.3.jpg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ollier_4e_Figure 4.1.jpg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ollier_4e_Figure 4.2.jpg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ollier_4e_Figure 4.3.jpg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llier_4e_Infographics 4.1.jpg"/>
          <p:cNvPicPr/>
          <p:nvPr/>
        </p:nvPicPr>
        <p:blipFill>
          <a:blip r:embed="rId1"/>
          <a:stretch/>
        </p:blipFill>
        <p:spPr>
          <a:xfrm>
            <a:off x="1814400" y="0"/>
            <a:ext cx="55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ollier_4e_Infographics 4.1(Continued).jpg"/>
          <p:cNvPicPr/>
          <p:nvPr/>
        </p:nvPicPr>
        <p:blipFill>
          <a:blip r:embed="rId1"/>
          <a:stretch/>
        </p:blipFill>
        <p:spPr>
          <a:xfrm>
            <a:off x="1906560" y="0"/>
            <a:ext cx="53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ollier_4e_Table 4.1.jpg"/>
          <p:cNvPicPr/>
          <p:nvPr/>
        </p:nvPicPr>
        <p:blipFill>
          <a:blip r:embed="rId1"/>
          <a:stretch/>
        </p:blipFill>
        <p:spPr>
          <a:xfrm>
            <a:off x="3100320" y="0"/>
            <a:ext cx="29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36:48Z</dcterms:created>
  <dc:creator>conversion</dc:creator>
  <dc:description/>
  <dc:language>en-US</dc:language>
  <cp:lastModifiedBy>conversion</cp:lastModifiedBy>
  <dcterms:modified xsi:type="dcterms:W3CDTF">2015-01-14T05:37:19Z</dcterms:modified>
  <cp:revision>1</cp:revision>
  <dc:subject/>
  <dc:title>Slide 1</dc:title>
</cp:coreProperties>
</file>