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55C-6156-43FD-A83E-C77E8A96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B56-41BC-4CEB-A806-D13641CF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8CB-D033-4532-8D1C-0C114E6D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4A6-B78B-4000-916C-AA1CDD7D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A4B-D159-4353-B4C4-444F6CCB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7BE-0058-4ABD-B3DE-8DA991B7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B5A-FA25-412D-AF8E-14C77AC5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82D-CA33-4628-A864-B917F9B9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D6F-BC6E-490A-949C-C80F91A2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8B2-5EF4-4437-A9B1-4B185FA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836-8C39-4EFB-8B7D-BC91286D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479-53FD-444B-95E8-1D6CFF5C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0E16-9A97-4C45-B1DF-912EE250F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Inforgraphics 15.1.jpg"/>
          <p:cNvPicPr/>
          <p:nvPr/>
        </p:nvPicPr>
        <p:blipFill>
          <a:blip r:embed="rId1"/>
          <a:stretch/>
        </p:blipFill>
        <p:spPr>
          <a:xfrm>
            <a:off x="1892160" y="0"/>
            <a:ext cx="535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Inforgraphics 15.2.jpg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32:34Z</dcterms:created>
  <dc:creator>conversion</dc:creator>
  <dc:description/>
  <dc:language>en-US</dc:language>
  <cp:lastModifiedBy>conversion</cp:lastModifiedBy>
  <dcterms:modified xsi:type="dcterms:W3CDTF">2015-01-09T09:33:09Z</dcterms:modified>
  <cp:revision>1</cp:revision>
  <dc:subject/>
  <dc:title>Slide 1</dc:title>
</cp:coreProperties>
</file>