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465-BDB4-499A-9D2B-CB2ABAB4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A74-0A31-480A-807D-6C69B06A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54E-3495-40A1-AC6D-A69AD08B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D6F-A5FF-45BA-A2EB-F4A0AEA5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2B8-5165-44C5-91B9-62824268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C6C-F618-4756-B70D-70A1BD2E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526-4BA3-4248-BB02-BB616C1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6AD-93C2-4066-AA59-2CA15451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EC96-AB83-4954-874E-2B2A5001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08D-51AA-473D-B0A5-2F1EDAED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4D7-A631-44B8-BCF5-3D02F163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039-FFF2-41C9-9CB3-D1EDE0E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79F6-6ED1-44E0-AF08-7EA88DAB9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Inforgraphics 14.1.jpg"/>
          <p:cNvPicPr/>
          <p:nvPr/>
        </p:nvPicPr>
        <p:blipFill>
          <a:blip r:embed="rId1"/>
          <a:stretch/>
        </p:blipFill>
        <p:spPr>
          <a:xfrm>
            <a:off x="858960" y="0"/>
            <a:ext cx="742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Inforgraphics 14.2.jpg"/>
          <p:cNvPicPr/>
          <p:nvPr/>
        </p:nvPicPr>
        <p:blipFill>
          <a:blip r:embed="rId1"/>
          <a:stretch/>
        </p:blipFill>
        <p:spPr>
          <a:xfrm>
            <a:off x="307800" y="0"/>
            <a:ext cx="85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31:42Z</dcterms:created>
  <dc:creator>conversion</dc:creator>
  <dc:description/>
  <dc:language>en-US</dc:language>
  <cp:lastModifiedBy>conversion</cp:lastModifiedBy>
  <dcterms:modified xsi:type="dcterms:W3CDTF">2015-01-09T09:32:20Z</dcterms:modified>
  <cp:revision>1</cp:revision>
  <dc:subject/>
  <dc:title>Slide 1</dc:title>
</cp:coreProperties>
</file>