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4FEC-D968-4D50-8640-FD311E049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567B-DA54-4E7E-A616-60B17DF23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6D4B-619D-4484-97CC-D28C73FCB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AC2F-F532-49BC-ADFA-281B698A6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3804-7881-492F-83BA-DE399FF7F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833D-6CED-4AC6-82D9-53050F5F4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187D-3943-4A5F-875E-6B687B1A6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A537-F327-4017-8EAA-8F87953DC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A04A-1A60-4AB8-8138-30289C44C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5665-C282-471E-B6E5-CD847F850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1F0D-AC29-41F2-9AFE-31E54EE83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118C-B9F6-497F-8592-AF0B7D682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E8024-106B-488B-8234-B5E2DFE273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Hanson_5e_Inforgraphics 13.2.jpg"/>
          <p:cNvPicPr/>
          <p:nvPr/>
        </p:nvPicPr>
        <p:blipFill>
          <a:blip r:embed="rId1"/>
          <a:stretch/>
        </p:blipFill>
        <p:spPr>
          <a:xfrm>
            <a:off x="2057400" y="0"/>
            <a:ext cx="5029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Hanson_5e_Inforgraphics 13.1.jpg"/>
          <p:cNvPicPr/>
          <p:nvPr/>
        </p:nvPicPr>
        <p:blipFill>
          <a:blip r:embed="rId1"/>
          <a:stretch/>
        </p:blipFill>
        <p:spPr>
          <a:xfrm>
            <a:off x="195120" y="0"/>
            <a:ext cx="8753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9T09:29:05Z</dcterms:created>
  <dc:creator>conversion</dc:creator>
  <dc:description/>
  <dc:language>en-US</dc:language>
  <cp:lastModifiedBy>conversion</cp:lastModifiedBy>
  <dcterms:modified xsi:type="dcterms:W3CDTF">2015-01-09T09:31:20Z</dcterms:modified>
  <cp:revision>1</cp:revision>
  <dc:subject/>
  <dc:title>Slide 1</dc:title>
</cp:coreProperties>
</file>