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56A-2A5E-4025-BABE-0F168FB5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688-1F55-404F-9649-446885B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0D7-A33C-45C0-9B21-6BD98A4F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6A4-44F4-4A11-ABE5-168DD796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45B-7CB7-4469-B178-B8D22FBA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BE7-0DB4-4CA2-B384-B44D34F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EB3-274B-4D52-8D89-D5D7A64C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A97-14F2-4AA1-A1A7-25AA071F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973-57EC-4F6B-B614-C3BD7217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C2B-0E1F-440D-9441-456A5C4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56D-1977-4C88-8E49-5ACCA526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092-7608-4FC7-ABEE-914730B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1D73-78F2-47B9-8562-BB0E30241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12.1.jpg"/>
          <p:cNvPicPr/>
          <p:nvPr/>
        </p:nvPicPr>
        <p:blipFill>
          <a:blip r:embed="rId1"/>
          <a:stretch/>
        </p:blipFill>
        <p:spPr>
          <a:xfrm>
            <a:off x="957240" y="0"/>
            <a:ext cx="72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28:07Z</dcterms:created>
  <dc:creator>conversion</dc:creator>
  <dc:description/>
  <dc:language>en-US</dc:language>
  <cp:lastModifiedBy>conversion</cp:lastModifiedBy>
  <dcterms:modified xsi:type="dcterms:W3CDTF">2015-01-09T09:28:41Z</dcterms:modified>
  <cp:revision>1</cp:revision>
  <dc:subject/>
  <dc:title>Slide 1</dc:title>
</cp:coreProperties>
</file>