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5334-18D8-423F-B919-03283FE8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B7F-6127-4892-8D6F-9B5FB6A7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422-6A3F-438D-AC6F-BC5253DE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4EB-C998-404A-8AB7-F61E813E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D1A-F405-49CE-88A6-034A115B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EA2-2984-49A1-85DF-7B6767A2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6906-F586-4A70-92FF-8350CB6D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01A-5769-47C0-AB27-7D528060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752-435B-408B-AD6D-A34FD6EA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125-BD2F-480B-AA86-AFA0D0F8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C2B-6BA2-47CA-933F-F062ED1A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58AD-2239-474E-B0A7-5A6C69D8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B710-AB9E-490D-96F4-CA62EFA8A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anson_5e_Figure 11.1.jpg"/>
          <p:cNvPicPr/>
          <p:nvPr/>
        </p:nvPicPr>
        <p:blipFill>
          <a:blip r:embed="rId1"/>
          <a:stretch/>
        </p:blipFill>
        <p:spPr>
          <a:xfrm>
            <a:off x="2610000" y="0"/>
            <a:ext cx="392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anson_5e_Inforgraphics 11.1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anson_5e_Table 11.1.jpg"/>
          <p:cNvPicPr/>
          <p:nvPr/>
        </p:nvPicPr>
        <p:blipFill>
          <a:blip r:embed="rId1"/>
          <a:stretch/>
        </p:blipFill>
        <p:spPr>
          <a:xfrm>
            <a:off x="229068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anson_5e_Table 11.2.jpg"/>
          <p:cNvPicPr/>
          <p:nvPr/>
        </p:nvPicPr>
        <p:blipFill>
          <a:blip r:embed="rId1"/>
          <a:stretch/>
        </p:blipFill>
        <p:spPr>
          <a:xfrm>
            <a:off x="236520" y="0"/>
            <a:ext cx="866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9:27:38Z</dcterms:created>
  <dc:creator>conversion</dc:creator>
  <dc:description/>
  <dc:language>en-US</dc:language>
  <cp:lastModifiedBy>conversion</cp:lastModifiedBy>
  <dcterms:modified xsi:type="dcterms:W3CDTF">2015-01-09T09:27:52Z</dcterms:modified>
  <cp:revision>1</cp:revision>
  <dc:subject/>
  <dc:title>Slide 1</dc:title>
</cp:coreProperties>
</file>