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524-87F4-4A21-9E8A-C88264BB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9D1-3F51-45DD-806E-CDC76CDB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F0B-A0CE-4DCD-B8ED-FFD74F43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EDD-459A-4057-B84A-86D1B772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EA9-E7C0-47A6-AFA3-FA656C2E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21E-AB03-432C-86D0-062792BB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3D0-FD03-4393-AA2E-DDE145E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69FA-5E97-41A4-BEDD-7BAB04EB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11E-902B-4132-B7DB-27E7B37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0CB-A8DE-451A-BF61-D08BF92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E9B-6F4E-428B-894A-DB936C66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78F-8789-438F-A387-6E9BF67B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C21-746F-4CB4-BA46-956D5218C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10.1.jpg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Figure 10.2.jpg"/>
          <p:cNvPicPr/>
          <p:nvPr/>
        </p:nvPicPr>
        <p:blipFill>
          <a:blip r:embed="rId1"/>
          <a:stretch/>
        </p:blipFill>
        <p:spPr>
          <a:xfrm>
            <a:off x="2581200" y="0"/>
            <a:ext cx="39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Inforgraphics 10.1.jpg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anson_5e_Inforgraphics 10.2.jpg"/>
          <p:cNvPicPr/>
          <p:nvPr/>
        </p:nvPicPr>
        <p:blipFill>
          <a:blip r:embed="rId1"/>
          <a:stretch/>
        </p:blipFill>
        <p:spPr>
          <a:xfrm>
            <a:off x="1889280" y="0"/>
            <a:ext cx="536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7:06Z</dcterms:created>
  <dc:creator>conversion</dc:creator>
  <dc:description/>
  <dc:language>en-US</dc:language>
  <cp:lastModifiedBy>conversion</cp:lastModifiedBy>
  <dcterms:modified xsi:type="dcterms:W3CDTF">2015-01-09T09:17:34Z</dcterms:modified>
  <cp:revision>1</cp:revision>
  <dc:subject/>
  <dc:title>Slide 1</dc:title>
</cp:coreProperties>
</file>