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5F5-1C94-4CCD-AA6E-56BC1AD1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237-34F3-4463-BD98-E1A9175A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5AA-4A02-43EA-BB4B-EF533298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F7A-A161-4651-B451-7C28E9A3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DC9-66BA-47BE-9620-512CF124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7E0-0E65-4E4F-85BD-1AA1C610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436-4280-4721-A242-2BC52689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591-80D4-4278-8FD8-89E9F8A5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33F-3097-4302-BAA6-40BA9951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052-CD3E-4E36-B1D1-BB50EF19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876-A60A-4369-9C53-15681379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C55-D6AE-4AD6-98AD-276E494E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4205-0212-4989-A8F3-D0D833193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Figure 9.1.jpg"/>
          <p:cNvPicPr/>
          <p:nvPr/>
        </p:nvPicPr>
        <p:blipFill>
          <a:blip r:embed="rId1"/>
          <a:stretch/>
        </p:blipFill>
        <p:spPr>
          <a:xfrm>
            <a:off x="1036800" y="0"/>
            <a:ext cx="707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Inforgraphics 9.1.jpg"/>
          <p:cNvPicPr/>
          <p:nvPr/>
        </p:nvPicPr>
        <p:blipFill>
          <a:blip r:embed="rId1"/>
          <a:stretch/>
        </p:blipFill>
        <p:spPr>
          <a:xfrm>
            <a:off x="1901880" y="0"/>
            <a:ext cx="53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anson_5e_Inforgraphics 9.2.jpg"/>
          <p:cNvPicPr/>
          <p:nvPr/>
        </p:nvPicPr>
        <p:blipFill>
          <a:blip r:embed="rId1"/>
          <a:stretch/>
        </p:blipFill>
        <p:spPr>
          <a:xfrm>
            <a:off x="1982880" y="0"/>
            <a:ext cx="517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15:44Z</dcterms:created>
  <dc:creator>conversion</dc:creator>
  <dc:description/>
  <dc:language>en-US</dc:language>
  <cp:lastModifiedBy>conversion</cp:lastModifiedBy>
  <dcterms:modified xsi:type="dcterms:W3CDTF">2015-01-09T09:16:42Z</dcterms:modified>
  <cp:revision>1</cp:revision>
  <dc:subject/>
  <dc:title>Slide 1</dc:title>
</cp:coreProperties>
</file>