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9CA0-525E-4AA9-AE9E-9F670C819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C9C0-77F5-40C3-8350-44F0BE61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93E6-D4E8-43DD-B42D-6E0425F98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4007-AE9C-45CC-BC83-FD312CB0C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A742-83FA-41BB-BD16-FAE9097E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92CE-AD1E-4A56-9FAA-70D14031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F76A-7BF1-4013-BFE9-E7527A56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F073-1472-4FB1-9C64-9A90894A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E00A-E7EC-451B-9129-2FD60588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8335-31BA-406D-8FE9-1D6E6778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3126-A3B4-41D7-8CBD-BF19C538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999A-AD68-4C8B-A21D-C84C4E79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2555-C9CF-47E2-8EEF-B4CDF23120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Hanson_5e_Inforgraphics 8.1.jpg"/>
          <p:cNvPicPr/>
          <p:nvPr/>
        </p:nvPicPr>
        <p:blipFill>
          <a:blip r:embed="rId1"/>
          <a:stretch/>
        </p:blipFill>
        <p:spPr>
          <a:xfrm>
            <a:off x="403200" y="0"/>
            <a:ext cx="833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Hanson_5e_Inforgraphics 8.2.jpg"/>
          <p:cNvPicPr/>
          <p:nvPr/>
        </p:nvPicPr>
        <p:blipFill>
          <a:blip r:embed="rId1"/>
          <a:stretch/>
        </p:blipFill>
        <p:spPr>
          <a:xfrm>
            <a:off x="1924200" y="0"/>
            <a:ext cx="529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Hanson_5e_Table 8.1.jpg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Hanson_5e_Table 8.2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9T09:14:24Z</dcterms:created>
  <dc:creator>conversion</dc:creator>
  <dc:description/>
  <dc:language>en-US</dc:language>
  <cp:lastModifiedBy>conversion</cp:lastModifiedBy>
  <dcterms:modified xsi:type="dcterms:W3CDTF">2015-01-09T09:15:19Z</dcterms:modified>
  <cp:revision>1</cp:revision>
  <dc:subject/>
  <dc:title>Slide 1</dc:title>
</cp:coreProperties>
</file>