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D39-2DF4-4B6D-99A4-9F28BFC0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57C-34E1-46BC-892B-86B55FBC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8DB-D639-4173-A76F-CFCB9B0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ED2-4085-4DDC-A640-62458DB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A19-3609-4E05-9274-D835D90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61B-3917-40ED-8EEC-956DEB1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4B9-E172-4C84-8815-7E05AB5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AD95-2156-404C-A306-1CC7B99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4C46-CBD8-4427-835F-CB8B818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C03-31EB-452F-BC74-3C418E4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16D-BBC0-43E2-A505-D9B16F8D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94A-DBA9-43E2-ADD4-D7E23C23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04D-34CD-4B1E-ADE9-61FAF16B6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7.1.jpg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Figure 7.2.jpg"/>
          <p:cNvPicPr/>
          <p:nvPr/>
        </p:nvPicPr>
        <p:blipFill>
          <a:blip r:embed="rId1"/>
          <a:stretch/>
        </p:blipFill>
        <p:spPr>
          <a:xfrm>
            <a:off x="133200" y="0"/>
            <a:ext cx="887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Inforgraphics 7.1.jpg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anson_5e_Table 7.1.jpg"/>
          <p:cNvPicPr/>
          <p:nvPr/>
        </p:nvPicPr>
        <p:blipFill>
          <a:blip r:embed="rId1"/>
          <a:stretch/>
        </p:blipFill>
        <p:spPr>
          <a:xfrm>
            <a:off x="2624040" y="0"/>
            <a:ext cx="389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nson_5e_Table 7.2.jpg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3:04Z</dcterms:created>
  <dc:creator>conversion</dc:creator>
  <dc:description/>
  <dc:language>en-US</dc:language>
  <cp:lastModifiedBy>conversion</cp:lastModifiedBy>
  <dcterms:modified xsi:type="dcterms:W3CDTF">2015-01-09T09:13:55Z</dcterms:modified>
  <cp:revision>1</cp:revision>
  <dc:subject/>
  <dc:title>Slide 1</dc:title>
</cp:coreProperties>
</file>