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0B60-3621-4078-982A-435ECFE89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E088-FDC3-4084-A11F-89AEC45E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C16E-8159-4FEA-8E03-2670F4CE1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8DC4-DE3B-4F23-BA24-E582B3A1C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AB43-98DB-4D17-BC90-43F0FC84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2E81-F53B-4CD3-8903-9958C63F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8B51-D809-48AC-A449-FC4F09A0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6E23-03EF-423C-A0C5-27228B8F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3C27-B782-4436-BBE9-0D9CA1DC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76A7-C953-4558-9428-EDD01875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3F9D-343D-4E85-B5BA-24429C66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CF33-2FC5-4188-BE31-1F9EEBC0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9363-9EF8-4284-B678-88E782F4D0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Hanson_5e_Inforgraphics 6.1.jpg"/>
          <p:cNvPicPr/>
          <p:nvPr/>
        </p:nvPicPr>
        <p:blipFill>
          <a:blip r:embed="rId1"/>
          <a:stretch/>
        </p:blipFill>
        <p:spPr>
          <a:xfrm>
            <a:off x="353880" y="0"/>
            <a:ext cx="843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Hanson_5e_Table 6.1.jpg"/>
          <p:cNvPicPr/>
          <p:nvPr/>
        </p:nvPicPr>
        <p:blipFill>
          <a:blip r:embed="rId1"/>
          <a:stretch/>
        </p:blipFill>
        <p:spPr>
          <a:xfrm>
            <a:off x="1679400" y="0"/>
            <a:ext cx="578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Hanson_5e_Table 6.2.jpg"/>
          <p:cNvPicPr/>
          <p:nvPr/>
        </p:nvPicPr>
        <p:blipFill>
          <a:blip r:embed="rId1"/>
          <a:stretch/>
        </p:blipFill>
        <p:spPr>
          <a:xfrm>
            <a:off x="0" y="876240"/>
            <a:ext cx="914400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9T09:12:00Z</dcterms:created>
  <dc:creator>conversion</dc:creator>
  <dc:description/>
  <dc:language>en-US</dc:language>
  <cp:lastModifiedBy>conversion</cp:lastModifiedBy>
  <dcterms:modified xsi:type="dcterms:W3CDTF">2015-01-09T09:12:33Z</dcterms:modified>
  <cp:revision>1</cp:revision>
  <dc:subject/>
  <dc:title>Slide 1</dc:title>
</cp:coreProperties>
</file>