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FDF-3B70-4B61-8B59-B03B5E4D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D48-4077-4398-8C0F-21155000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527-6365-445E-B444-502F76A4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D00-050D-4AA8-A7E1-099F62E4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E71-43FC-46CF-BBA1-A8EE8288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BC8-85AC-418A-B551-FCD19599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1F8-EDA3-4863-88B3-8F75E895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8E2-E631-4542-9465-DA80E6E3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F6B-0061-4B2D-97D2-3A8456D4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891-EF82-494E-BBB2-C32BBBE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A24-FEE3-43C3-B633-CC5BEFBE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1E7-7B2C-489A-BBFC-A7B6BE18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1CDA-6CCC-4C5F-862B-5EA84F49E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Inforgraphics 5.1.jpg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Table 5.1.jpg"/>
          <p:cNvPicPr/>
          <p:nvPr/>
        </p:nvPicPr>
        <p:blipFill>
          <a:blip r:embed="rId1"/>
          <a:stretch/>
        </p:blipFill>
        <p:spPr>
          <a:xfrm>
            <a:off x="2311560" y="0"/>
            <a:ext cx="451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anson_5e_Table 5.2.jpg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10:47Z</dcterms:created>
  <dc:creator>conversion</dc:creator>
  <dc:description/>
  <dc:language>en-US</dc:language>
  <cp:lastModifiedBy>conversion</cp:lastModifiedBy>
  <dcterms:modified xsi:type="dcterms:W3CDTF">2015-01-09T09:11:35Z</dcterms:modified>
  <cp:revision>1</cp:revision>
  <dc:subject/>
  <dc:title>Slide 1</dc:title>
</cp:coreProperties>
</file>