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03F-DC3B-4F59-B749-9C70CF2C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092-B6F5-47DF-A788-CB0DEF48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43B-1DAB-4EA6-8F67-B2BCBEA8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F8C-2FA2-4CF9-A119-33801448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757-EAE4-4567-87BC-88AEE450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8A6F-C59D-4922-AA27-273321C7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7DE-569F-4C7E-A057-010AD068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B291-4BF4-4725-890C-FDDAD858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486-9DB6-49D7-9E61-88F43AC7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34F-8092-4A75-8D82-9A0A0FBF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7D0-0235-4EEC-A6D1-EE82B86C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310-CED7-4789-9607-C81589A0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7A54-2CBB-4429-8D1B-089718856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anson_5e_Figure 4.1.jpg"/>
          <p:cNvPicPr/>
          <p:nvPr/>
        </p:nvPicPr>
        <p:blipFill>
          <a:blip r:embed="rId1"/>
          <a:stretch/>
        </p:blipFill>
        <p:spPr>
          <a:xfrm>
            <a:off x="750960" y="0"/>
            <a:ext cx="764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anson_5e_Figure 4.2.jpg"/>
          <p:cNvPicPr/>
          <p:nvPr/>
        </p:nvPicPr>
        <p:blipFill>
          <a:blip r:embed="rId1"/>
          <a:stretch/>
        </p:blipFill>
        <p:spPr>
          <a:xfrm>
            <a:off x="149400" y="0"/>
            <a:ext cx="884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anson_5e_Inforgraphics 4.1.jpg"/>
          <p:cNvPicPr/>
          <p:nvPr/>
        </p:nvPicPr>
        <p:blipFill>
          <a:blip r:embed="rId1"/>
          <a:stretch/>
        </p:blipFill>
        <p:spPr>
          <a:xfrm>
            <a:off x="1754280" y="0"/>
            <a:ext cx="56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anson_5e_Inforgraphics 4.2.jpg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anson_5e_Table 4.1.jpg"/>
          <p:cNvPicPr/>
          <p:nvPr/>
        </p:nvPicPr>
        <p:blipFill>
          <a:blip r:embed="rId1"/>
          <a:stretch/>
        </p:blipFill>
        <p:spPr>
          <a:xfrm>
            <a:off x="2244600" y="0"/>
            <a:ext cx="46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9:09:44Z</dcterms:created>
  <dc:creator>conversion</dc:creator>
  <dc:description/>
  <dc:language>en-US</dc:language>
  <cp:lastModifiedBy>conversion</cp:lastModifiedBy>
  <dcterms:modified xsi:type="dcterms:W3CDTF">2015-01-09T09:10:30Z</dcterms:modified>
  <cp:revision>1</cp:revision>
  <dc:subject/>
  <dc:title>Slide 1</dc:title>
</cp:coreProperties>
</file>