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BF4-8D37-45EB-BC9F-5094AEB3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488-1D90-4AFF-82F7-F2936FEC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E2D-B48C-44C9-9F4F-E632A137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CC5-522A-4D86-8603-0BAFC213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539-EFDB-40B8-82CD-33FD9DDB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790-FB14-44D2-B7A9-1345581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49D-0561-4213-831F-10EFA0FD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043-0AC9-4D34-A300-435525E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C10-1C33-4C46-AD1C-F824124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CEE-AE40-405F-B7EC-9C4794F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82F-E2BA-4D2B-807A-73D348C7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391-D670-4F29-B516-7D956A10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A0F-A0E3-404E-ABC9-9E5082F8B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3.1.jpg"/>
          <p:cNvPicPr/>
          <p:nvPr/>
        </p:nvPicPr>
        <p:blipFill>
          <a:blip r:embed="rId1"/>
          <a:stretch/>
        </p:blipFill>
        <p:spPr>
          <a:xfrm>
            <a:off x="1479600" y="0"/>
            <a:ext cx="61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3.1.jpg"/>
          <p:cNvPicPr/>
          <p:nvPr/>
        </p:nvPicPr>
        <p:blipFill>
          <a:blip r:embed="rId1"/>
          <a:stretch/>
        </p:blipFill>
        <p:spPr>
          <a:xfrm>
            <a:off x="411120" y="0"/>
            <a:ext cx="831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08:29Z</dcterms:created>
  <dc:creator>conversion</dc:creator>
  <dc:description/>
  <dc:language>en-US</dc:language>
  <cp:lastModifiedBy>conversion</cp:lastModifiedBy>
  <dcterms:modified xsi:type="dcterms:W3CDTF">2015-01-09T09:09:14Z</dcterms:modified>
  <cp:revision>1</cp:revision>
  <dc:subject/>
  <dc:title>Slide 1</dc:title>
</cp:coreProperties>
</file>