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B824-B279-4313-8061-9AD2EBBD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2BC7-C2D5-4421-9AF1-37A71CAA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0D4-A6D0-41D7-84A9-2084BAAF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95A-130C-4ADE-A734-576E77AF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6F1-9ECC-4A17-995C-C6E43CF8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461-A60F-4103-A685-D187C226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7F2-7197-4203-B4BF-F6E730AA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EFD-B945-4E1B-B0D6-B78F2C34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7F9-AD9B-482A-980D-93B3AA7E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66D-E961-430B-8852-FE70C53C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A45-5766-45FE-8DF9-4E6FE620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6A9-30E2-4F08-A37A-7B6D01DB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6255-9E23-435B-8DC4-89B338552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Inforgraphics 2.1.jpg"/>
          <p:cNvPicPr/>
          <p:nvPr/>
        </p:nvPicPr>
        <p:blipFill>
          <a:blip r:embed="rId1"/>
          <a:stretch/>
        </p:blipFill>
        <p:spPr>
          <a:xfrm>
            <a:off x="188928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Inforgraphics 2.2.jpg"/>
          <p:cNvPicPr/>
          <p:nvPr/>
        </p:nvPicPr>
        <p:blipFill>
          <a:blip r:embed="rId1"/>
          <a:stretch/>
        </p:blipFill>
        <p:spPr>
          <a:xfrm>
            <a:off x="0" y="353880"/>
            <a:ext cx="91440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07:19Z</dcterms:created>
  <dc:creator>conversion</dc:creator>
  <dc:description/>
  <dc:language>en-US</dc:language>
  <cp:lastModifiedBy>conversion</cp:lastModifiedBy>
  <dcterms:modified xsi:type="dcterms:W3CDTF">2015-01-09T09:08:10Z</dcterms:modified>
  <cp:revision>1</cp:revision>
  <dc:subject/>
  <dc:title>Slide 1</dc:title>
</cp:coreProperties>
</file>