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2464-AD5B-4EA0-AB9C-1F91F32F1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DC26-8264-449C-9387-288F47D5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EA3C-6026-47AC-BEBC-088AB5017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6992-8400-4573-ABE9-9015B917D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C501-6E81-4EC9-91F9-394EB9DD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0232-504B-4A03-8783-7A7C08AB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1C9B-135D-4CB0-B177-1D65711B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4D1E-87A5-4ACE-8195-2E71A822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1720-007A-47E7-93C0-94729845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80E7-937D-4FC5-AC1D-D26688F1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5A4A-2B70-4A98-9F13-8031270A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3AAF-2634-4E1C-92CE-FBBBF50B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5717-0264-4508-BF72-5633603D02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Hanson_5e_Figure 1.1.jpg"/>
          <p:cNvPicPr/>
          <p:nvPr/>
        </p:nvPicPr>
        <p:blipFill>
          <a:blip r:embed="rId1"/>
          <a:stretch/>
        </p:blipFill>
        <p:spPr>
          <a:xfrm>
            <a:off x="898560" y="0"/>
            <a:ext cx="734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Hanson_5e_Inforgraphics 1.1.jpg"/>
          <p:cNvPicPr/>
          <p:nvPr/>
        </p:nvPicPr>
        <p:blipFill>
          <a:blip r:embed="rId1"/>
          <a:stretch/>
        </p:blipFill>
        <p:spPr>
          <a:xfrm>
            <a:off x="0" y="263520"/>
            <a:ext cx="914400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Hanson_5e_Table 1.1.jpg"/>
          <p:cNvPicPr/>
          <p:nvPr/>
        </p:nvPicPr>
        <p:blipFill>
          <a:blip r:embed="rId1"/>
          <a:stretch/>
        </p:blipFill>
        <p:spPr>
          <a:xfrm>
            <a:off x="744480" y="0"/>
            <a:ext cx="7653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9T09:05:02Z</dcterms:created>
  <dc:creator>conversion</dc:creator>
  <dc:description/>
  <dc:language>en-US</dc:language>
  <cp:lastModifiedBy>conversion</cp:lastModifiedBy>
  <dcterms:modified xsi:type="dcterms:W3CDTF">2015-01-09T09:06:27Z</dcterms:modified>
  <cp:revision>1</cp:revision>
  <dc:subject/>
  <dc:title>Slide 1</dc:title>
</cp:coreProperties>
</file>