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overningStatesAndLoc3e_CMYK300ppts"/>
          <p:cNvPicPr/>
          <p:nvPr/>
        </p:nvPicPr>
        <p:blipFill>
          <a:blip r:embed="rId3"/>
          <a:srcRect l="0" t="28867" r="0" b="94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2"/>
          <p:cNvSpPr/>
          <p:nvPr/>
        </p:nvSpPr>
        <p:spPr>
          <a:xfrm>
            <a:off x="3352680" y="33526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hapter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GoverningStatesAndLoc3e_CMYK300ppts"/>
          <p:cNvPicPr/>
          <p:nvPr/>
        </p:nvPicPr>
        <p:blipFill>
          <a:blip r:embed="rId3"/>
          <a:srcRect l="56920" t="0" r="0" b="73703"/>
          <a:stretch/>
        </p:blipFill>
        <p:spPr>
          <a:xfrm>
            <a:off x="0" y="0"/>
            <a:ext cx="923292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304920" y="1828800"/>
            <a:ext cx="8534160" cy="0"/>
          </a:xfrm>
          <a:prstGeom prst="line">
            <a:avLst/>
          </a:prstGeom>
          <a:ln w="101520">
            <a:solidFill>
              <a:srgbClr val="ba1e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sign3"/>
          <p:cNvPicPr/>
          <p:nvPr/>
        </p:nvPicPr>
        <p:blipFill>
          <a:blip r:embed="rId4"/>
          <a:stretch/>
        </p:blipFill>
        <p:spPr>
          <a:xfrm>
            <a:off x="7234200" y="5732640"/>
            <a:ext cx="1909800" cy="11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429000" y="5866920"/>
            <a:ext cx="36576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Financ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Important Term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onary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cal fed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520" y="91440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Restraints on State and Local Budgete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unded man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ot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s as reflections of policy prior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revenue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tax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intergovernmental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38188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Taxes and Public Opin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shor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can only slash programs or raise tax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-2009 R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Recovery and Reinvestment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5438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ources of State Revenu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vehicle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e (death)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ise (sin)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nce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overnmental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Important Term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consumption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sive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 bu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8381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Taxing Variations among States and Localit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 capacity – the ability to p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 effort – how much is paid relative to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xplaining Tax Vari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8580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apital Investments = Deb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obligatio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ipal bo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68580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Budget Proces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cal 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d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xpenditur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f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, police, p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5:42:23Z</dcterms:created>
  <dc:creator>Dwain Smith</dc:creator>
  <dc:description/>
  <dc:language>en-US</dc:language>
  <cp:lastModifiedBy>SageUser</cp:lastModifiedBy>
  <dcterms:modified xsi:type="dcterms:W3CDTF">2014-12-15T16:32:12Z</dcterms:modified>
  <cp:revision>17</cp:revision>
  <dc:subject/>
  <dc:title>Finance</dc:title>
</cp:coreProperties>
</file>