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overningStatesAndLoc3e_CMYK300ppts"/>
          <p:cNvPicPr/>
          <p:nvPr/>
        </p:nvPicPr>
        <p:blipFill>
          <a:blip r:embed="rId3"/>
          <a:srcRect l="0" t="28867" r="0" b="94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2"/>
          <p:cNvSpPr/>
          <p:nvPr/>
        </p:nvSpPr>
        <p:spPr>
          <a:xfrm>
            <a:off x="3352680" y="33526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hapter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GoverningStatesAndLoc3e_CMYK300ppts"/>
          <p:cNvPicPr/>
          <p:nvPr/>
        </p:nvPicPr>
        <p:blipFill>
          <a:blip r:embed="rId3"/>
          <a:srcRect l="56920" t="0" r="0" b="73703"/>
          <a:stretch/>
        </p:blipFill>
        <p:spPr>
          <a:xfrm>
            <a:off x="0" y="0"/>
            <a:ext cx="923292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304920" y="1828800"/>
            <a:ext cx="8534160" cy="0"/>
          </a:xfrm>
          <a:prstGeom prst="line">
            <a:avLst/>
          </a:prstGeom>
          <a:ln w="101520">
            <a:solidFill>
              <a:srgbClr val="ba1e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sign3"/>
          <p:cNvPicPr/>
          <p:nvPr/>
        </p:nvPicPr>
        <p:blipFill>
          <a:blip r:embed="rId4"/>
          <a:stretch/>
        </p:blipFill>
        <p:spPr>
          <a:xfrm>
            <a:off x="7234200" y="5732640"/>
            <a:ext cx="1909800" cy="11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47760" y="5791320"/>
            <a:ext cx="52578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titu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How State Constitutions Va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rules and selection for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politica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sion of specific citizens’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v. direct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Local Governm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nicipal char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onstitutions define the possibilities of politics in most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nd reveal variation across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n additional outlet for citizen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8580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ate Constitu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variation among state co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of a state’s political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of a state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of citizens’ understanding of “good govern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of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838188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ate Constitutions within the Federal Political Syste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constitu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stablish roles and responsibilities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fine instituti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stablish operation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pell out rights of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68580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Different from U.S. Constit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9144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an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race of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884160"/>
            <a:ext cx="861084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volution of State Constitu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7621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al ch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ve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ameral vs. bicameral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Crow laws and the franch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Amending State Constitu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ve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ot initiatives and referend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onal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onal revision com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8381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Amending State Constitutions, cont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icial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ing powers between bra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Direct Democrac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914400" y="2332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v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d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Why State Constitutions Va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s of good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5:19:35Z</dcterms:created>
  <dc:creator>Dwain Smith</dc:creator>
  <dc:description/>
  <dc:language>en-US</dc:language>
  <cp:lastModifiedBy>SageUser</cp:lastModifiedBy>
  <dcterms:modified xsi:type="dcterms:W3CDTF">2014-12-15T16:30:23Z</dcterms:modified>
  <cp:revision>18</cp:revision>
  <dc:subject/>
  <dc:title>Constitutions</dc:title>
</cp:coreProperties>
</file>