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8580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352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056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352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5056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596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84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352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1596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984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overningStatesAndLoc3e_CMYK300ppts"/>
          <p:cNvPicPr/>
          <p:nvPr/>
        </p:nvPicPr>
        <p:blipFill>
          <a:blip r:embed="rId3"/>
          <a:srcRect l="0" t="28867" r="0" b="94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2"/>
          <p:cNvSpPr/>
          <p:nvPr/>
        </p:nvSpPr>
        <p:spPr>
          <a:xfrm>
            <a:off x="3352680" y="33526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hapter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GoverningStatesAndLoc3e_CMYK300ppts"/>
          <p:cNvPicPr/>
          <p:nvPr/>
        </p:nvPicPr>
        <p:blipFill>
          <a:blip r:embed="rId3"/>
          <a:srcRect l="56920" t="0" r="0" b="73703"/>
          <a:stretch/>
        </p:blipFill>
        <p:spPr>
          <a:xfrm>
            <a:off x="0" y="0"/>
            <a:ext cx="923292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101520">
            <a:solidFill>
              <a:srgbClr val="ba1e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sign3"/>
          <p:cNvPicPr/>
          <p:nvPr/>
        </p:nvPicPr>
        <p:blipFill>
          <a:blip r:embed="rId4"/>
          <a:stretch/>
        </p:blipFill>
        <p:spPr>
          <a:xfrm>
            <a:off x="7234200" y="5732640"/>
            <a:ext cx="1909800" cy="11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600200" y="6171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eder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7162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Dual Federalism (1789-193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ed 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nd federal governments have separate jurisdiction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-centered federalism vs. state-centered fede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ification and se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00200" y="807840"/>
            <a:ext cx="68580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ooperative Federalism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(1933-1964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ble cake federalism (overlapping and inseparable jurisdi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nd national governments work together to re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Depression and the New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problem identification, program design, and grant funding to pay fo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and local program implementa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600200" y="807840"/>
            <a:ext cx="68580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entralized Federalism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(1964-198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government takes leading role, states and localities take back 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s-in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evenue sharing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unded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over sa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807840"/>
            <a:ext cx="89154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New Federalism (1980-200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and localities should regain power and less funding from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523880" y="8380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Ad Hoc Federalism?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(2002-prese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83808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state-centered, sometimes nation-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ng on political or partisan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gency Working Group on Fede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1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00200" y="8380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A (brief) Return to Centralized Federalism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8380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government might be better equipped to deal with som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520" y="579240"/>
            <a:ext cx="68580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upervising Federalis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-cente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McCullough v. Mary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-cente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United States v. Lope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o nation-center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Bush v. G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ologies foster inconsistenc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8580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m offers distinct advantages and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haring relationships vary across time and acros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 reversal of New Federalism or short-term shift of power to national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Federalis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haring between central and regional govern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he power to do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ystems of Pow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concentrated in a cent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concentrated in regional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shared with national and regional governments as independent eq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6858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Origins of Federalis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80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the Articles of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apolis Convention and Shays’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representativ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42640" y="8078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Advantages of Federalis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decisions can reflect local p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conflict between citizens and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or policy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s national polic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807840"/>
            <a:ext cx="830592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Disadvantages of Federalis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, confusion, and du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rease conflict between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and service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ordination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7720" y="1036440"/>
            <a:ext cx="84582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Power Challenge I: National Pow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umerated powers vs. implied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 powers vs. concurrent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acy clause and pre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and proper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elfar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7631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Power Challenge II: State Pow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pecific grants of authority, only “concurrent pow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faith and credit clause” and “privileges and immunities clau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h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eenth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3880" y="884160"/>
            <a:ext cx="73152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Power Challenge III: the Refere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of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 Supreme 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5:11:45Z</dcterms:created>
  <dc:creator>Dwain Smith</dc:creator>
  <dc:description/>
  <dc:language>en-US</dc:language>
  <cp:lastModifiedBy>SageUser</cp:lastModifiedBy>
  <dcterms:modified xsi:type="dcterms:W3CDTF">2014-12-12T16:23:25Z</dcterms:modified>
  <cp:revision>21</cp:revision>
  <dc:subject/>
  <dc:title>Federalism</dc:title>
</cp:coreProperties>
</file>