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14B-9F3D-4DBA-9587-2A3DA00E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CB8-7FBF-4498-9059-7AB57B4F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43C-AFAD-4AE7-92C7-FE9F9F1E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C7C-774E-432E-BD69-D2C10E18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DE1-6448-4701-AD7D-D18B1EB8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8269-881B-474D-BDC3-958D1656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19E1-894D-4695-9311-A48DD69D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2C3D-B8C6-42D8-A160-78A9D9DE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611-228C-4960-BFAA-612C81C2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68BC-C07D-4C3D-8677-5622B2FB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9C7E-A9B1-4170-9DEE-76643EE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D34-16D3-4F4E-A84A-964C7270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83EF-BF11-4DAF-91FE-107D2D07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6409-4872-4452-A179-5124A11F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C58F-2AB8-4053-BF58-2C0B0B87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2BE-93AD-414D-A7E9-07BBE342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84D2-FC2F-4E82-87C9-10F336A0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AA89-B577-4C3C-ABD2-80FE136A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E3A6-0469-4158-9AB6-E5EE8C2D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368B-C638-43C3-A3AF-5E02ABB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08E2-3B03-4ABD-B7A6-7F89EA41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2945-7946-40D1-8167-13972F5D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FFA-705A-4053-BD0B-AC38140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D5FD-4FFC-483E-A7A2-EA73A3E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8C1D-4D8A-43C2-B07D-5DDA02BB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0D92-EFBE-446B-93E8-A1654A54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C4B8-37FF-46A5-A0B6-A0B5688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3C04-571F-4355-98D4-47A981EF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007C-AB9E-41D4-BFD5-C5FD609E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E72D-B3CC-48A5-B501-8925DD34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647-B98C-4114-AAC0-A866B749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2B3-AE9A-4994-BDF7-A0514FE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24B-FB7D-4EC2-A552-CA7F5124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557-4609-4A9B-9035-CBBC594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BB4-A95E-4993-8A05-69A6DC3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506-E4C5-4BEE-81E3-D8A5D69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B0C-D951-451C-B96B-75BC9D2D1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26E-56FB-4B3D-AFA2-7560611E0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8AC7-2404-4396-944A-1B444E1C38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38CB-4686-42F5-A5B2-EAC60FFC1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9CA-9540-4CE8-B041-250B2ECE2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0356-F81B-4B93-A2E8-FB3184659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38400" y="165600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14. Political Culture: Sex and Agricultur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etting Rucked Explains It Al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ulture and Social Distanc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seems to shrink the reality of dis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wis are culturally connected to both London and other Pacific isl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ultural connection shrinks the extremely large distances to these pl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ulture as Politic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can be applied to the pursuit of political and social goal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Cold War, the Russian Bolshoi Ballet frequently toured the world and served as a means of establishing nonhostile inter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ing events, particularly the Olympics, have been used intentionally to bridge the rifts between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ulture as Politic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use culture to define or justify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pe of Kuwait” resonated with an American culture obsessed with stories of selfless heroes and helped justify the first Gulf W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military officials drew on Americans’ shared knowledge of sports in describing events in football and baseball t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ians often hunt or fish to connect with rural constituen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ulture as Politic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se of culture for political or other ends is common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can be used politically to influence group ident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s, cities, and regions around the world use athletic teams as a means to generate community ident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play of jerseys, caps, and posters identifies members of the community and reminds the people who see them of that comm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Sound of Black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le of sports in community building can be seen clearly in New Zea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l Blacks national rugby team is intimately connected with New Zealand’s national ident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a Mate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ll Blacks’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ka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aori call to battle, has been a part of the All Blacks’ history since the beginning, some one hundred years a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ultural Ownership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pite the rol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a M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ems to play as a part of New Zealand national identity, it is not in the public domain; its “ownership” is legally prot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ha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 to the innate value of culture, the fact that culture can be used to accomplish things indicates that it has instrumental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ack to the Question of “What Is Culture?”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t comes to the politics of cultural ownership, there are two interrelated 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do you define cultur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How do you protect cul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the names or chants associated with some U.S. sports teams cross the line and become the exploitation of certain groups’ cultu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 about the current controversy over the Washington Redskins trademarked team na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issue a matter of money? The protection of an indigenous culture? Cultural exploitation? Insensitiv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ack to the Question of “What Is Culture?”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t comes to political efforts to address culture, such as efforts to preserve indigenous cultures around the world, language always seems to be first targ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effort is put into recording languages and keeping them alive as spoken langu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of the debate about culture boils down to political questions, political debates, and political attempts at re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 truly does seem to permeate everyth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ulture Summar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76160"/>
            <a:ext cx="8229600" cy="518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e does have some explanatory val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t cannot explain all differences among n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e can affect a nation’s approach to policy cho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ians can use a nation’s culture as a powerful tool to achieve political ends and establish group ident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al ownership can cause conflict both domestically and international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litical Cult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22240"/>
            <a:ext cx="8229600" cy="5135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is commonly defined in terms of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mplic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xplic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fs, practices, and expec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is the set of values that a group sh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when two societies share most key aspects of culture, the cultural gap between them can still be hu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blem with using culture to explain political phenomena is that culture, political or otherwise, offers a universal expla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explain when vastly different things happen in similar cultures or when similar things occur in vastly different cultur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ulture as Explan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denying that culture is real and that it has a significant influence on poli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rules out certain possibilities and favors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also clearly not determinis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culture is a seductively simple explanation that seems to explain everything, but in truth it is neither simple nor univers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pplying Political Cult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 is something that helps individuals identify with the larger group and provides a context for action by and within that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culture is the shared social context from which people make political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pplying Political Cult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752480"/>
            <a:ext cx="8229600" cy="518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olitical socializ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process by which the group teaches the shared context to the members of socie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gents of political socializ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ose from whom the group learns the political cul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i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gious lea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pations (coworkers, professional associations, un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pplying Political Cult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an understand New Zealand’s political culture in terms of sever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untry’s geographic is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largely agricultural economic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British colonial ro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t that the Maori, the descendants of pre-colonial inhabitants, are a large enough group to comprise a successful political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pplying Political Cult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the idea of culture as shared social context, there are three different ways it might be related to politic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, through culture’s influence on politics, specifically, how New Zealand’s isolation shapes its foreign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, through the ways culture is used to attain political ends, such as by establishing and enhancing local and national ident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, through what might be call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ultural ownershi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ultural pre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 Thousand Miles to Nowhere: Isolation and Foreign Polic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Zealand is extremely remo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effects seem to follow from this iso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verseas experience, or OE, is encouraged for New Zealan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Zealand has extremely strict immigration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 goods are relatively expensive t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New Zealand is so remote, the nation has little concern for geostrategic foreig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 Thousand Miles to Nowhere: Isolation and Foreign Polic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al concerns drive New Zealand’s foreign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Zealand commonly defies the United States when the United States acts geostrategically at the expense of democratic and liberal ide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Zealand refuses to allow nuclear-powered ships or any ships that might carry nuclear weapons to enter its territorial wa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7T19:54:30Z</dcterms:created>
  <dc:creator>Ken</dc:creator>
  <dc:description/>
  <dc:language>en-US</dc:language>
  <cp:lastModifiedBy>Mosier, Daniel</cp:lastModifiedBy>
  <dcterms:modified xsi:type="dcterms:W3CDTF">2015-01-07T17:19:40Z</dcterms:modified>
  <cp:revision>62</cp:revision>
  <dc:subject/>
  <dc:title>A Novel Approach to Politics</dc:title>
</cp:coreProperties>
</file>