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194C-2FC4-4983-A88A-25F7AEFD1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C349-B22E-45A5-B076-B90C3B48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E4B-01D3-4A32-B0AD-6108578A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01F-9951-4D61-B7F9-7E592C45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94C-6DA6-40BC-A1C0-CBBE58A1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8FC-F072-4FFD-87C3-E3785AB8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FDE0-50CD-4DAB-9422-766B6464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FD19-E991-4DE0-A14E-832814B3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84FA-D7A9-43E6-8208-6E8CBFD6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760F-0D5A-4814-A23E-AEA83C04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D035-0FF2-4920-99CE-F9BCA18F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68D3-3AF5-4781-992E-27D4564F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2A67-508F-4C56-980C-5191C12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35C-79D5-4E8B-A01C-866C2480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D782-1249-4B3C-B35B-71D979E6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6ED0-31C9-4481-AC46-9581313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CDF5-1037-4E86-8A27-433ED8E3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6D37-63C1-40DB-9918-22521BD2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7A99-5D43-48BA-8A39-B7F70414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CA25-C8FF-4D0D-B23B-10D6AC40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35E2-4823-4704-B4A6-38239484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DB36-1FAF-4E4C-9230-E3BE4B21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ADE5-0C14-4ABB-BD03-4A9A108E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E7A9-D5EB-4BFA-9779-A014433E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98B-AC1A-46C0-B449-11930FBF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4B591-AE48-41F6-B802-BB934A12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F272-D4D5-490B-A771-3C1CCAAE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A205-1F0B-497E-BCA5-89198D24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9745-335D-497C-A5F6-9F89BCA5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2784-22B8-4D18-B8F6-AE9E38A5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77B9-01C6-4EA2-B181-68028DE2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E9D0-4A7E-4F27-BBAA-0F441129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E1D6-5671-4380-9789-0B036065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97B10-63F4-4C69-9152-C3EECF21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A617F-A402-4447-B785-4EBD1E56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736-CFDF-4DAA-B387-F98328AA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AF8E-DF01-4FE9-B1A8-8D1023AB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8FBC7-701B-465E-9981-FF2CE643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31EC-1CD4-46F7-9FBF-5029CF76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F9BE-32EB-4CA3-B9EE-A338AC5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9D18-CA24-45FB-8FB9-EC20AE27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E0A7D-934C-4EA4-8914-FDC955E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CEB8-60CA-4B2B-8922-2C48EDD9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BDC43-AF2C-44BA-BDA6-8A07D1A8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3259A-CC6A-456B-8CAA-2BAE5907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0F5-C4A0-4E6A-BFA3-F56C4E5F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D54-2BEB-4858-9E7F-4B2B7481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CB0-07CF-4164-8BDD-569E0D59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DB2-2203-4661-8664-A77E3FD1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EB8-8BAD-4D34-875A-8146209E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489F-D509-475B-9D29-A4B7291E30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D86A-4DAD-408B-A922-FEE37D7FE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27B5-2288-48EB-A97F-BA82B6C7C5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2943-23B2-43AD-BEA5-1C0C697F5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BB8B-B6CD-4587-BE8D-8A04E82DA7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914A-7847-47EB-B7DB-EC4222667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12E3-856A-48E2-B4D6-F15E4BC962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10C2-F7A6-46F1-BF12-EF73C44BD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38400" y="1656000"/>
            <a:ext cx="8467200" cy="141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2.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International Politic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pocalypse Now and Then</a:t>
            </a: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hallenging the Realist Paradig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sm has a difficult time explaining why cooperative international behavior is more common than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sm is also limited in the fact that it ignores the role of econom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762760" cy="6172200"/>
          </a:xfrm>
          <a:prstGeom prst="rect">
            <a:avLst/>
          </a:prstGeom>
          <a:ln w="0">
            <a:noFill/>
          </a:ln>
        </p:spPr>
      </p:pic>
      <p:sp>
        <p:nvSpPr>
          <p:cNvPr id="218" name="Footer Placeholder 1"/>
          <p:cNvSpPr/>
          <p:nvPr/>
        </p:nvSpPr>
        <p:spPr>
          <a:xfrm>
            <a:off x="3124080" y="65530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hallenging the Realist Paradig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berali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less of a theory than a political ideal encompassing democracy, capitalism, human rights, and civil liber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tructivi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communication theory based on the idea that the construction of the “other” is a predominant influence on international decision making and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rxi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gues that imperialism and colonialism extend capitalist exploitation into the international con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Not So Black Box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Foreign Policy Analysi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stions the realist presumption of the state unitary rational ac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ther, Foreign Policy Analysis is all about the decision making that goes on within states in response to inputs from the anarchic international syst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oblem is that since no two states are alike, the analysis can be a complicated m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hy Kant Democracies Fight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anuel Kant’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emocratic Peace Theo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s that since leaders of democratic states are held accountable to the people, they are much less likely to be able to justify the costs of going to w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democracies do seem to go to war, they do not seem to fight one an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ortunately, there is little scholarly consensus on the cause of this democratic pe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Shadow of the Hegemon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world really anarchi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economic activity is far more important and common than war, which is relatively r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there is a dominan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egem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imposes some degree of structure on international trade and other inter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Shadow of the Hegemon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hegemon sets up trade and other rules that benefit the hegem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maller countries must voluntarily follow along if they want to participate in international tra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sts to the hegemon of maintaining the system eventually outweigh the benef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fading hegemonic power is eventually replaced by a challeng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t’s the Economy, Stupid”–Karl Marx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alternative to the realist paradigm is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orld Systems Theor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country is made up of a small capitalist elit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large working-clas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iphe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, countries can be divided between a small core of wealthy, elite, capitalist countries and a much larger periphery of poor, less developed count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 is a world economic system that replicates the capitalist exploitative relationship on a global sc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lth flows from the peripheries to the cores, both within and between count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t’s the Economy, Stupid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–Karl Mar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103120"/>
            <a:ext cx="8229600" cy="4830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re of the periphery keeps the system going because it receives key resources from the core of the c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in the periphery of the core countries keep the system going because they get the benefit of cheap goods as a result of the exploitation of periphery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t’s the Economy, Stupid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–Karl Mar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179440"/>
            <a:ext cx="822960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ans, grants, aid, and trade agreements all benefit the developed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uild economic infrastructures that facilitate economic exploitation of periphery countries by core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they tie developing countries to debts that extract capital at alarming r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Realism in International Politic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sm is both historically and conceptually the predominant perspective on international poli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rt, this is because war is what we notice about international poli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international politics is actually about cooperation: trade, travel, communication, environmental regulation, and the li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t’s the Economy, Stupid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–Karl Mar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17944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verything about globalization is bad and ev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eracy rates and access to educational opportunities are higher than they have ever b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re access to health care and vaccin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some exceptions, ditto for human rights and basic rights for w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t’s the Economy, Stupid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–Karl Mar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179440"/>
            <a:ext cx="822960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, it would be impossible to stop global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phenomenon created by advancing technology, increasing worldwide education, and the aggregate economic choices of billions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onstructivis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eings construct the reality around them through language and commun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nceptual framework used to describe something enables certain actions and prevents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ivism is based on the interpretation of ideas and the construction of ident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ivism remains a fairly new international relations the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Dude, Think about the Fish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capitalist pressures become ever more universal, economic pressures drive overexploitation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lobal tragedy of the commons is an issue that extends across nations and involves subnational political units, multinational entities, and transnational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oaring Mic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Vacation Hot Spot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179440"/>
            <a:ext cx="822960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question is not so much which theoretical approach is correct, but how different ideas can help us understand what is going 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does Barbados exis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has little power in an anarchic wor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it an economic issue? A moral issue? Something els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is no one simple theory that explains global intera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ational relations are complex and multifacet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auses of War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722240"/>
            <a:ext cx="8229600" cy="5135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iction, war is presented as so horrible that only an accident or misunderstanding could explai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reality, the choice to go to war is pretty much always consciously and rationally made by at least one of the particip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ynamics that cause a war are far more intricate and complex than the event that sparks the conflag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ack to Anarch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ly, there has never been a formal, hierarchical political stru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rchy is the underlying dynamic of international poli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eoretical construct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lis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the best explanation of how international politics operates in an anarchic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orld War I Was Unpleasan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rrors of World War I are a big part of the reason the study of international politics is so focused on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was also socially trauma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y of international politics developed during the interwar period and was focused on the quest to ensure a peaceful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ll Quiet on the Western Front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dy of academic work developed during this period is referred to a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deal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ism is based on two main assump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, conflict of any sort is b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, no rational leader would choose to endure the massive destruction caused by w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Realism and War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ig problem with idealism and the quest for peace was that it didn’t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utbreak of World War II compelled scholars to abandon idealism in favor of real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sm is all about rational choices made in the pursuit of power in an anarchic international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Realism and War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tenets of Realism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tates are rational unitary a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se unitary rational states interact in an anarchic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ower is the fundamental resource to be pursu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alancing and Bandwagoning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51200"/>
            <a:ext cx="822960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lance of pow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s to the way the distribution of power internationally influences the pattern of alliances that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iance formation driven by the fear that the more powerful side might be pursuing g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ndwag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fers to allying with a stronger power to gain favor or to share in spoi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7T17:39:44Z</dcterms:created>
  <dc:creator>Mash Family</dc:creator>
  <dc:description/>
  <dc:language>en-US</dc:language>
  <cp:lastModifiedBy>Mosier, Daniel</cp:lastModifiedBy>
  <dcterms:modified xsi:type="dcterms:W3CDTF">2015-01-07T17:07:43Z</dcterms:modified>
  <cp:revision>81</cp:revision>
  <dc:subject/>
  <dc:title>A Novel Approach to Politics</dc:title>
</cp:coreProperties>
</file>