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3028-6269-49F1-9740-241D5D0B1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D1F8-92EB-4E8D-84B6-2B0E05AA5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999B-469B-454E-984E-5E178273C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2C1-8892-4020-A0DA-E2CA18A6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2D4-1C13-4431-B3FE-E8AB0722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5B2-BB4C-4356-874A-205B600F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E1E-1CB5-4575-AB62-B5CCB308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99AC-D32D-45A8-803A-650EA531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A633-CD27-4764-87AC-44E1BEB7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F2A1-FACD-4959-9097-03FBCFA3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24D1-9A20-442E-9839-46577C39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33A2-B3F5-4514-B6DF-C3FF49BD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48CB-BAC8-45E5-89EE-7DFE9674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91AE-2987-4DFB-B0C2-23632733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5C7-21AB-4596-8D2A-7F1DB153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1984-6DE7-4D21-AFC3-AFADA734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A548-E14C-4EC9-9D15-E567B7D0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D6FA-AC17-43EE-9161-DB3BE430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0607-7C5D-42EC-8022-D8FFEF8A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8AD4-0F34-424B-AC8E-FDB67454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95471-2EE5-4519-A36F-1606F2FA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1183E-1808-4564-8810-9CAB51EC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83F5-7A6B-4B57-ACF4-2A51F43A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0DB41-CCC1-4CA0-9135-AF6B4F5F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D51E4-6491-4D88-8C13-14B08CED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A90E-B4DD-4EC3-88DC-98D04C59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6FB23-B55A-45BF-B6AE-A0508C4D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D2976-3C37-40E2-A6B7-217ED216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6FACA-1CF8-4878-B330-22213603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C1D48-098C-4F7F-87A0-11671E77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AE349-2520-462E-98BE-B2023440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CF846-872A-4F6B-8156-98E3F135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3F6E4-5B23-4E80-8C76-767B4F17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68E-C363-4880-BA9C-13DD4274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567-1FA0-4BC7-B4C5-78059A62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D67-1195-4329-B648-01B27AE8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B92-230F-4823-A2B4-EAC0959D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2BF-1E42-402D-9919-F73A9E90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690-B50F-4E54-A41C-15E8FF1E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5699-02B0-42B2-95A9-534137487D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F5DC-494D-4801-9EBE-F9FC9CC19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DDE6-8738-4633-A9E9-606B1987A2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75A5-B5C1-4C1B-936B-A797EA422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EBF6-7B47-468B-B5B4-95C17CF1B7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01AE-9C64-47BA-ADF4-C1D657DD9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38400" y="1732320"/>
            <a:ext cx="8467200" cy="141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8. Brazilian Bureaucracy: Do I Even Need to Bother with the Joke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gency Theory and the Responsive Bureaucrac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057040"/>
            <a:ext cx="8229600" cy="480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ency theory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incipal-agent model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rts that bureaucracies work like contractors to the legisla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ed officials do not have to monitor bureaucracies closely, they just need to monitor the results and keep an eye out for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explains how bureaucracies do adjust to the will of elected officials and the publ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Cockroach Theory of Bureaucrac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reaucracies struggle against other demands for limited government fu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that fail to meet their public service demands or draw critical attention could have their budgets c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oal is to avoid negative attention (from the media or elsewher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reaucracies thus monitor their own behavior according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Bureaucracy, It Goes to Eleven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of us find interacting with bureaucracies to be frustr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has less to do with their flaws and more to do with their ideals of strict adherence to rule-based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reaucracies are indispensable for performing many of the routine administrative functions we demand of gover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st majority of stuff that governments do is done by bureaucra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Ideals of Bureaucratic Governanc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305920" cy="5257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x Weber’s (1864–1920) ideal bureaucracy is rational and efficient and cont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lear assignment of role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ear organization avoids both duplication of effort and gaps in the proc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ule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ules ensure that decisions are impersonal and consistent and avoid favoring or discrimina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ierarchy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clear hierarchy allows for effective control of the bureaucracy and for handling challenges to the rule-based decision mak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rofessional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recruitment and promotion of personnel on the basis of merit helps to make sure the right people are in the optimum posi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Bureaucratic Ro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reaucracies can be categorized by their fun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ervic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viding services such as education, health care, welfare programs, p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egulatio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atching over particular segments of the economy (e.g., the Food and Drug Administration or the Securities and Exchange Commi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king sure that laws get put in place and determining all of the relevant deta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olicymaking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ndling the specifics of general laws passed by legisl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re Be Flaws in Yonder Bureaucracy, Obviously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1905120"/>
            <a:ext cx="8229600" cy="5029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cracies are supposed to be responsive to the publ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reaucracies are designed to be consistent, not respons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verhead democracy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s when elected officials, who are accountable to the public, are put at the top of the bureaucratic hierarch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uthority Leakag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798560"/>
            <a:ext cx="8229600" cy="505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uthority Leak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rs when efforts to control a bureaucracy become distorted as each level interprets ambiguities and makes adjustments to fit its ability to impl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lmost impossible for the top of the hierarchy to direct the outputs at the bottom consistently and effectiv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Iron Triangl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828800"/>
            <a:ext cx="8229600" cy="5029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ed leaders typically have little interest in exerting the effort necessary to monitor and control bureaucra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ontrast, the interest groups directly affected by bureaucracies have a great deal of inter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an result in an “iron triangle” formed by bureaucracies, interest groups, and the relevant congressional committee(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Iron Triangl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4" name="Content Placeholder 3" descr="Irontriangle.PNG"/>
          <p:cNvPicPr/>
          <p:nvPr/>
        </p:nvPicPr>
        <p:blipFill>
          <a:blip r:embed="rId1"/>
          <a:srcRect l="-28800" t="0" r="-28800" b="0"/>
          <a:stretch/>
        </p:blipFill>
        <p:spPr>
          <a:xfrm>
            <a:off x="457200" y="1417680"/>
            <a:ext cx="8354880" cy="48308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2057400" y="6245280"/>
            <a:ext cx="524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from Wikimedia Commons, public 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1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Iron Triangl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reaucracies can be “captured” so that they focus on the needs of interest groups rather than the public inter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iron triangles can be very powerful and all but impenetrable by outside a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bureaucracies and democracy compati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st majority of bureaucratic agencies perform quite effectively in the democratic contex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6T18:21:58Z</dcterms:created>
  <dc:creator>Mash Family</dc:creator>
  <dc:description/>
  <dc:language>en-US</dc:language>
  <cp:lastModifiedBy>Mosier, Daniel</cp:lastModifiedBy>
  <dcterms:modified xsi:type="dcterms:W3CDTF">2015-01-07T15:52:40Z</dcterms:modified>
  <cp:revision>45</cp:revision>
  <dc:subject/>
  <dc:title>A Novel Approach to Politics</dc:title>
</cp:coreProperties>
</file>