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F799-9F97-4CEE-8CED-A84B6833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B747-7D42-45FC-AC72-C35B8FAF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20E-4BC5-4927-B8A7-E24BDEB7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6A2-17DF-418B-A3EC-BCC4C933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1E7-F28D-49F2-9AC8-820230D7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A31-6949-4501-955D-09C73EE6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FB3C-07C9-4C09-ABF0-8677187E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F8A8-940B-4B19-9E6F-3281A1F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399B-9076-4F95-B74B-B09CD3B2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6D0F-15A7-4211-B497-A08855D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55FF-B5A7-414E-BF72-9D3F7F3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2F0F-4E3F-43E5-8600-DEB4B231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9070-713F-4E2B-88C2-C148C6C0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A09-B166-417B-B8F8-4D8CC40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056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D6DB-0111-4D76-99DF-F7FC663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2139-82BF-4E99-AB06-D9A8676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52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F57F-B8F4-4C0C-86A4-6CECB64D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056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4AF2-CB3D-40B2-9971-17454DBF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596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52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596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84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78D3-EA5D-4AE7-B98F-4D5BEE8A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F0DF-4B50-49C9-B901-E4AEBE86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18F9-9195-4EE9-B639-E834858D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CB9A-36AB-46FD-9887-D5E07EE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A1DB-029A-45DB-A7C7-5E5DBDC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3131-EED1-4DA4-BFC1-F472A3C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B56-CF31-4CBF-B84B-0BE31AC6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F229-F03D-453F-9BAE-5550D123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E6FB-9A3A-4D29-94BD-0C3A49B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5056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A1E4-AFA1-4B37-9F50-959FC00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5D10-56DC-465E-8CA9-EF5CCF7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352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478F-C5DE-4433-A520-435ED1D1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5056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D1BB-F9DA-4230-B7CB-C042E4B9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596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84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3352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596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984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FAF4-57DF-4A2D-A3AB-ED4EC400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CFA-C33A-491C-B32B-377DD653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88C-4FF5-42CA-8DE7-EF113082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976-BF33-4319-AFB2-BB32022A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A1C-6869-4FD2-A4ED-052C704D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786-E4DE-4061-A17B-AB6707E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0A9-AF59-41B7-B8D9-E7FBD67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D69A-B38D-4891-ADA2-3C7C49DCD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3E1E-9D76-42EB-9D3E-B0D4921C4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082-601A-440C-9F89-4D9C5BD74B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CF17-D88C-40DE-8C72-B7415C36D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21B-FD9C-4F9B-82CA-1122A3B03A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306E-8653-4D2E-9178-2934674CD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38400" y="165600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7. The Confederacy of Dunc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egislative Func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Wearisome Legislative Function of Legitimat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itimating refers to establishing the law as something that should be acce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simply be because an issue was decided in the legisl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Educating Functio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cratic legislatures must educate the citizen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unction is facilitated by the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with geographic constituencies may also try other means of communication and education in their distri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Legislatures in Parliamentary and Presidential System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2057040"/>
            <a:ext cx="8229600" cy="48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sidential system creates a strong and independent execu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nger is that the executive becomes too strong (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erial presid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appealing directly to the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accumulating power as legislatures avoid controversial decisions out of their fear of constituent back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Monotony of Gridlock in Presidential System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2026800"/>
            <a:ext cx="8229600" cy="483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hecks and balances work too well, it may be very difficult for government to get anything d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particularly true when there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ivided govern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ifferent parties control different branch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the separation of powers 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idlock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United States policymaking is often reduced to baby ste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Banality of Parliamentary Instabilit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is difficult to enact big changes in a presidential system, social and economic policy remains fairly consis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parliamentary system, sweeping change is easier, and too much change can be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especially true for business or economic planning or any policymaking that looks to the future (education, law enforcement, and the lik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Banality of Parliamentary Instabilit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cond source of instability in parliamentary systems is the tenure of the government its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mply majorit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vote of no confid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lead to the formation of a new government and often new el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stability problem of parliaments is the opposite of and equal to the gridlock problem of presidential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District versus Proportional System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strict system elects an individual who is clearly responsible for representing the interest of the distri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portional system increases the number of parties and the variety of political perspectives represen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portional system ensures that almost every vote is reflected in the final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alition Governmen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more parties, it is often necessary to form coalitions to maintain a major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often ad hoc and uneasy alli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so especially when a minor party is in a key position to form a coalition one way or 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evant part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in influence that far outweighs their electoral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alition Governmen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parliamentary governments do not suffer from gridlock, they may suffer fro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mobil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re complex and fragile the ruling coalition, the more difficult it is to enact coherent legis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asionally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nority govern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rule with an agreement that another party will abstain from a no-confidence vo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alition Governmen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asionally there will be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y govern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wo major and opposing parties work together to achieve a higher national purpo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e has a parliament and a president who is elected sepa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a system can result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habitation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one party controlling the legislature and another controlling the presid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oring History Stuff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ically, the executive in ancient governments also performed legislative and judicial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legislative functions occurred in three main wa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Once law-like traditions became entrenched, the king could not change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Religious power structures gained po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Monarchs relinquished authority in return for acceptance of tax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presentation Flaws in District Elec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2026800"/>
            <a:ext cx="8229600" cy="483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rymandering, or intentionally drawing districts to gain partisan advantage, may occ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yalty of the representative may be split between the nation’s and the district’s best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ct loyalty discourages party loyalty and encourag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rk-barrel poli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of the legislator’s job becomes constituent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uthoritarian Legislative Institu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institutions can provide important representation and advisory functions, especially in oligarch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also legitimate laws and decisions, more so if the people believe the parliaments are truly represent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 Dreary Discussion of Democratic Legislature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202716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lawmaking is the most fundamental role legislative institutions play, they perform all of the following ro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w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tim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Humdrum Function of Lawmak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awma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most basic function of democratic legisla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ills are introduced into the legislative process by legislators, but the ideas (and even language) for laws may come from constituents, interest groups, the executive, or elsew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work of crafting legislation (research, hearings, debate, amending) occurs in committ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Lackluster Function of Legislative Representatio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2026800"/>
            <a:ext cx="8229600" cy="483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fundamental job of legislators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icamer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wo-house) legislature is useful if there is a need to represent different segments of society, such as by geography (the U.S. Senate) or by class (the British House of Lor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dundancy of two houses provides an additional check, but also slows things d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30592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presentation Strategi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1295280"/>
            <a:ext cx="8229600" cy="5562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main strategies for how seats in a legislature should be divided to represent the country: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eographic represent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portional represen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ographic represent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s the nation into districts based upon population (equal distribution) and geographic locatio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cts are represented by the candidate who got the most votes (a plurali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rst-past-the-p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ystem that favors moderate candidates and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-party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presentation Strategie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portional representation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ters vote for parties, which receive a portion of seats in the parliament based on their portion of the vo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esults 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party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eographic represent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regional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portional represent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ideological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ypes of Representative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eg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representative who attempts to do exactly what his or her constituents w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ust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representative who believes that voters trust him or her to make the right dec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ality, most representatives a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cting as delegates when issues are important to their constituencies and there is strong consensus, and acting as trustees the rest of the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Featureless Subsection on the Function of Check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2026800"/>
            <a:ext cx="8229600" cy="4830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responsibility of government institutions to watch over other government institutions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vers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ive hearings are an example of an oversight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liaments hav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dow governme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up of members of the minority pa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20:17:28Z</dcterms:created>
  <dc:creator>Mash Family</dc:creator>
  <dc:description/>
  <dc:language>en-US</dc:language>
  <cp:lastModifiedBy>Mosier, Daniel</cp:lastModifiedBy>
  <dcterms:modified xsi:type="dcterms:W3CDTF">2015-01-07T15:44:02Z</dcterms:modified>
  <cp:revision>99</cp:revision>
  <dc:subject/>
  <dc:title>A Novel Approach to Politics</dc:title>
</cp:coreProperties>
</file>