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018-622C-4ED3-A9BE-CD6C4852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9CA-138F-4523-A9F0-4E663F06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26E-476B-4917-8C24-4898B479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94FA-DD6A-488F-BEC2-8412A13E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6E7-D9FC-4871-B101-E0112575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A11-3662-4B06-8BB8-953627D3D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9A1-BDCD-4538-B630-DD4742E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503-68AB-4E0B-9E90-C48E3A34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9AA-60CE-47E5-9AF0-7A72009D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192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436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192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436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96B-7533-4A01-B3D7-4454D732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6752-4BF9-4B0B-AD6C-CEB99135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2194-73BE-4C75-B4C4-0BA71714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C635-ABF2-4358-AFC9-195DEA9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FF6-9357-42E5-82A6-DE642E37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74F6-034F-418E-BB38-87D66702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D7E8-CE61-4BD5-8E90-97170479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BB80-C1F8-4B26-8088-AD63BBD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14F-782E-46DA-8F53-6F0A503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319-DD01-4E11-8B07-6933BA1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E8B4-CBA8-4A93-9EBD-C789BCF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05C1-7DBF-46B4-A12A-6FC9EFAB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229-02F4-4746-A399-7138307D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192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436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9192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436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91F6-8310-4458-9AD0-8D849A59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2F64-38AE-47BE-9B07-9BBF829E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B16C-CB76-49FA-8761-AB58583C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D5A3-C205-4A07-B4AB-201E11D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3252-8F0B-42F8-86B4-E75630E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B73A-2378-490C-9E4C-EDADB65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AEA-99D8-49BA-8DC9-2A322B39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C4DD-0BDD-4C3F-A185-E129216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96D0-D884-4891-8113-3CDFA78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F077-59BF-4323-8ED8-D1F7172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BB69-38DA-4F03-94AB-7CAA9DB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3C5E-6CF3-4364-A949-C83DC131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AAA0-64D1-4D93-B7E5-65840882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9192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436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9192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436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E3A4-7FD9-41B6-AC26-7E42BC7F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600-CF57-4AE4-95BB-6ABB95B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870-4B46-4B99-87A3-19A1C98C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AC8-0A5E-49A1-9D3D-8A0BD636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3A9-443E-4CFE-BF42-138334F5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652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418-4800-4522-B3E5-518F2BD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652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098-AF27-4DA7-934D-CE0840A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144-8AE5-4CCA-A018-1E877995B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013-5C4C-41E5-9B09-94A76985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F606-C29B-41B4-8CE2-61C4C08490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8F29-7F3C-4663-B14D-97DDB4E2B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3298-77D8-408D-9E98-F78E241EA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807-CE8C-4BEE-817F-511F7AA6D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38400" y="165600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6. El Grande Loco Casa Blanca: The Executive (in Bad Spanish)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uthoritarian Oligarch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authoritarian oligarchies can be the informal products of dominant cultural, economic, or religious power 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ay result from single-party dominance in a democratic context, such as in Utah, Mexico, and Jap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Democratic Executiv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ections can be problematic as a democratic criter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 of a democratic executive as the servant of a significant portion of the publ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esidential syste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legislative and executive institutions are separate (the yolk is separated from the whit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rliamentary syste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fusion of legislative and executive (scrambled egg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Democratic Executiv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presidential system, the executive is separately elected and does not have to answer to the legisl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ident has an independent base of support (the electorat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parliamentary system, the prime minister is drawn from among the members of parliament (MPs) and remains responsible to both the parliament and the electo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Democratic Executiv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 parliamentary system, the prime minister serves until the next elections are scheduled or until a majority of MPs vote him or her ou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a presidential system, the president serves a fixed term unless removed through impeach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</a:t>
            </a:r>
            <a:r>
              <a:rPr b="0" i="1" lang="en-US" sz="4400" spc="-1" strike="noStrike">
                <a:solidFill>
                  <a:srgbClr val="000000"/>
                </a:solidFill>
                <a:latin typeface="Impact"/>
                <a:ea typeface="Arial"/>
              </a:rPr>
              <a:t>í</a:t>
            </a: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, El President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dern democratic presidency originated with the U.S. Constit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unders wanted to prevent the development of a king who would lead them to w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ower to declare war was left to Cong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the president was given the duty of commander in chie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S</a:t>
            </a:r>
            <a:r>
              <a:rPr b="0" i="1" lang="en-US" sz="4400" spc="-1" strike="noStrike">
                <a:solidFill>
                  <a:srgbClr val="000000"/>
                </a:solidFill>
                <a:latin typeface="Impact"/>
                <a:ea typeface="Arial"/>
              </a:rPr>
              <a:t>í</a:t>
            </a: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, El President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2036880"/>
            <a:ext cx="8229600" cy="483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s of the legislative and executive branches are separated, but they have checks on each o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ject 2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153280" cy="3505320"/>
          </a:xfrm>
          <a:prstGeom prst="rect">
            <a:avLst/>
          </a:prstGeom>
          <a:ln w="0">
            <a:noFill/>
          </a:ln>
        </p:spPr>
      </p:pic>
      <p:sp>
        <p:nvSpPr>
          <p:cNvPr id="18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Yes, Minister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ime minister is the leader of the winning party or coalition in the parlia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it far easier for a prime minister than it is for a president to shepherd legislation through the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Yes, Minister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parliamentary political parties are far more likely to vote cohesively than are members of parties in a presidential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s are dependent on their parties for their seats after an 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reinforced party loyalty makes the definition and enactment of policy much easier in a parliamentary system than in a presidential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emocratic Executives as Heads of Stat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s of state can take different forms: monarch, elected president, and so 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s of state are important for conferring legitimacy on govern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power wielded by different heads of state varies grea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democracy, the particular form of the head of state does not make much difference to the function of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emocratic Executives as Heads of Governmen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ad of government has many responsibilities. Can you name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ef legis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of the bureauc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 in foreign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vilian head of the mili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 of th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of his or her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 Grande Loco Casa Blanca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presidency provides a perfect example to contrast the reality versus the ideal of the execu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New Deal and World War II, the nation has expected a great deal out of its presidents, far more than is realistically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officeholders are bound to disappoint, Americans remain faithful to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stit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resid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h Captain, My Captai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874880"/>
            <a:ext cx="8229600" cy="4983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ecutive is the impleme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the part of government that a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types of execu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ad of stat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erson who symbolically embodies or represents th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ead of govern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erson who carries out the day-to-day responsibilities of gove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nited Kingdom, the Queen serves as head of state and the prime minister serves as head of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United States, the President serves in both r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Scorpion King on Grandpa’s Farm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security is the primary reason for government, we might think of the executive as the warrior 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likely, the executive developed as the gradual institutionalization of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atriarch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matriarch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a family gro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evalence of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hereditary monarchi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inforces the latter vie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ecause God Said So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s used to justify their rule based on the claim “I am God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advent of Christian monotheism and the Roman Empire, the justification changed to “Because God said I’m in charg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antecedent of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vine right of k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ecause God Said So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2057040"/>
            <a:ext cx="8229600" cy="48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int Augustin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ity of G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413–427) was  a crucial text in the development of Western political thou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gustine argued for a distinction between the heavenly kingdom and the earthly kingdom, which God appointed men to rule on his beha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allowed for the imperfection of governments and rulers on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Kings and Presid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executives can be categorized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uthoritari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mocra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uthoritarian execu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mostly unconstrained by other branches of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be either individuals (monarchies or dictators) or oligarch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Kings and Presid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mocratic execu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significantly and intentionally constrained in the independence of their 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usually constrained by the threat of future el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be either presidential or parliamen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uthoritarian Oligarch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authoritarian oligarchies are often descendants of revolutionary dict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usually carefully and extensively structu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the Communist Party of China and the Communist Party of Cu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itarian oligarchies are not just dictatorship by committ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9:54:59Z</dcterms:created>
  <dc:creator>Mash Family</dc:creator>
  <dc:description/>
  <dc:language>en-US</dc:language>
  <cp:lastModifiedBy>Mosier, Daniel</cp:lastModifiedBy>
  <dcterms:modified xsi:type="dcterms:W3CDTF">2015-01-07T15:28:03Z</dcterms:modified>
  <cp:revision>56</cp:revision>
  <dc:subject/>
  <dc:title>A Novel Approach to Politics</dc:title>
</cp:coreProperties>
</file>