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325D-87FF-4EF2-91D8-ED60FEBD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2B25-0A1B-4A02-831C-A04012D3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854-C04D-461C-881C-6C86A301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1A05-25D2-45ED-A977-B4F025A71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7817-E54F-45AC-9E37-8D3418E5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28A7-1AFC-4051-A7F6-0511B7A1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918-18B4-4719-8344-28C9D900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EC5-C8A0-497C-ADF2-FD068A11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0B67-54C9-4BEB-8DEC-508FD6986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6597-24C9-49AE-A787-FF3F0260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7914-03B1-4B0F-8F81-2995E260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D1C4-668F-46E4-86BA-C1B7F43D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120-4607-4322-ACB5-B7DE7A76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1C9-5EAE-4624-BEEB-98F68CA6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F913-0DB1-4D68-A365-326FEFC1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DD8-C840-469B-9FD8-D4A40A5C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BC2-91FB-4971-B5A4-B4F75E4E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FA3-2933-4E06-9CB4-A256F547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337-3654-42C4-A1F8-7E51453E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2B8-E366-49A4-8BB0-71FD1BC5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6DD-ACCA-4655-A7AD-57241C30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79F-6BB0-472F-934F-CDF89BFC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4FD-0856-47DE-B937-29640E00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630B-51FA-4822-807D-638C7F1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ABA-F98C-4E1F-AEFD-FB6906C2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0D6B-D398-44EC-9F93-6DA86FA1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1157-0C15-496B-81EA-A15CE13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A54-4DC8-4B11-9F13-9A020352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A230-A04A-4BA3-B144-D916B46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1DE-DE02-4D16-8E41-53AF219C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680E-DE2E-47FC-A170-CB135828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2E5-EF0E-4616-ABF9-407EDB9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6784-33F2-423B-8DDB-1CB7222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56AE-56C8-4754-A9D1-707B1F91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964-C67A-45D2-ABFC-083486E7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C581-54CD-4CBE-B604-71FAED33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D73D-4D11-4C5F-9BA0-C22E59B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7AC2-521C-4DAF-A82D-B39DA11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D3E8-B142-4AE9-8A88-D86DECBD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627D-656F-4C4E-B30A-CE86789A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B74-31EB-4666-B06A-26003800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2DD5-C970-45C6-B832-0FDCE880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0C77-7450-4C96-BD78-90DBAF2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7F6C-FED8-47CF-9CBF-72BB5637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20E2-6640-4BFF-BD47-6003614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DFE4-DCED-4A4F-B2E2-85A57DB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AA57-0793-4DF5-AE04-29A27355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FFC9-B7EC-45F8-A540-BCCA11F1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593-D064-4BEB-B5E9-5A1489F4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FFC-44A4-4510-AE8D-11788711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0CA-DF51-418E-A0E2-BCEA0780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002-4D2A-4BA7-8EBA-CDC5C09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42C-74B8-4F49-922B-127A617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EE3-EE84-4AB4-9862-63954DB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AA8B-38A9-4804-AC09-6382FDBA5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D52C-4615-44CE-8D66-ABD61181B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85D-C100-429B-BE40-AA462DA17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9EF-BF29-4B4F-9150-4EC57419D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B4A-F7D0-46B1-8DDE-6078CFEF7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A5D7-67BF-49E3-A148-1C9B7A10D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38400" y="1580040"/>
            <a:ext cx="8467200" cy="141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Structures and Institutions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Failed Institutions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951200"/>
            <a:ext cx="8763120" cy="483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ardless of intentions, statements, and constitutions, institutions may often serve purposes that are not appa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s can be hijacked by those with less-than-noble in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ay simply be distractions or even charades, such as elections for a dict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Legitimacy, Information, and Human Nat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2179440"/>
            <a:ext cx="876312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s can enhance the voluntary acceptance of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also teach and shape public dem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s of institutions we utilize can shape our basic behavior in our day-to-day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egitimacy, Information, and Human Na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0880" y="2255760"/>
            <a:ext cx="8763120" cy="467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s demanding citizen participation also demand that citizens be more aw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s that act paternally are likely to breed citizens dependent on strong leader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s that hunt down and punish dissent will generate fear, isolation, and atom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oosing Institution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icking a Terrai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880" y="2103120"/>
            <a:ext cx="876312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uctures that are put into place will be affected by the basic political cul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ation’s political culture is composed of “the system of empirical beliefs, expressive symbols, and values, which defines the situation in which political action takes place.”</a:t>
            </a:r>
            <a:r>
              <a:rPr b="0" lang="en-US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[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olitical culture can involve religious values, expectations, morals, ethics, and tra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[1]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Sidney Verba, “Comparative Political Culture,” in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olitical Culture and Political Development,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ed. Lucian W. Pye and Sidney Verba (Princeton, NJ: Princeton University Press, 1965), 5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1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oosing Institution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lecting a Basic Form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2133360"/>
            <a:ext cx="8763120" cy="472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tle identified six basic types of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were first divided by whether they worked for the benefit of all (good) or only for the ruling class (pervert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 major distinction was the size of the group in charge: One, The Few, The M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Impact"/>
              </a:rPr>
              <a:t>Aristotle’s Typology of Governments</a:t>
            </a:r>
            <a:endParaRPr b="0" lang="en-US" sz="34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371600"/>
          <a:ext cx="9144000" cy="5259240"/>
        </p:xfrm>
        <a:graphic>
          <a:graphicData uri="http://schemas.openxmlformats.org/drawingml/2006/table">
            <a:tbl>
              <a:tblPr/>
              <a:tblGrid>
                <a:gridCol w="1608120"/>
                <a:gridCol w="3301920"/>
                <a:gridCol w="4233960"/>
              </a:tblGrid>
              <a:tr h="77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umber Ru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ule in Accord with the Common Goo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ule Motivated by Individual or Class Self-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arc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ra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vernment by a virtuous ruler)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vernment by one lawless pers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st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igarc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vernment by the virtuous fe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vernment by the rich and nob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0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nstitutional government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ixture of democracy and oligarch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vernment by everyone acting in their own interest/mob ru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8" name="Footer Placeholder 1"/>
          <p:cNvSpPr/>
          <p:nvPr/>
        </p:nvSpPr>
        <p:spPr>
          <a:xfrm>
            <a:off x="3048120" y="65530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oosing Institution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lecting a Basic For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880" y="2255400"/>
            <a:ext cx="876312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untries that have monarchs do not actually give them much po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untry that does not have a monarch is, according to one very basic definition, a republ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representative democracies are actually ruled, to a greater or lesser degree, by some form of an aristocracy made up of a small group of eli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emocracies also have some very undemocratic elements, such as constitutional cou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oosing Institution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necting Your Government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2133720"/>
            <a:ext cx="8763120" cy="50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ationships among different levels of government can be more or less decentr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ree main government systems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ar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ede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keup of the nation, its history, its culture, and its geography tend to determine the type of stru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oosing Institution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necting Your Governmen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560" y="2179440"/>
            <a:ext cx="883908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tary syst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is centralized at the nation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nefits of this type of system include simplicity, equality, and lack of redunda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local governing boards may have input, but only at the mercy of the national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nited Kingdom is a Unitary System of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hoosing Institution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necting Your Governmen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880" y="2179440"/>
            <a:ext cx="876312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ederal sys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overeignty is shared between the national and the local government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orks well in diverse countries with variations in local conditions, economies, and cul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ted States is a Federal System of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Government Structur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676160"/>
            <a:ext cx="8763120" cy="521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s are the basic functions that governments need to per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take many different forms, but they will always be t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since all governments must establish the rules of acceptable behavior, every government must ha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islative structures, which create law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cutive structures, which implement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icial and policing structures, which enforce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hoosing Institution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nnecting Your Governmen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2285640"/>
            <a:ext cx="876312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 a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Confederal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system of government power is decentralized with the sovereign regional or sub-national governm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national or central government has few powers and is subject to the decision-making power of the regional governm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 European Union and the United Nations are both examples of a Confedral governance syst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Object 2" descr=""/>
          <p:cNvPicPr/>
          <p:nvPr/>
        </p:nvPicPr>
        <p:blipFill>
          <a:blip r:embed="rId1"/>
          <a:stretch/>
        </p:blipFill>
        <p:spPr>
          <a:xfrm>
            <a:off x="577800" y="1143000"/>
            <a:ext cx="8185320" cy="5029200"/>
          </a:xfrm>
          <a:prstGeom prst="rect">
            <a:avLst/>
          </a:prstGeom>
          <a:ln w="0">
            <a:noFill/>
          </a:ln>
        </p:spPr>
      </p:pic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ructures or Institutions?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752480"/>
            <a:ext cx="8763120" cy="5105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uctures ar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eneric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as institutions ar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peci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egislature is 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olitical structu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the British House of Commons is 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olitical institu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judicial system is 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olitical structu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the U.S. Supreme Court is 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olitical institu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Political institutions are the organizational structures through which political power is exercis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Nature and Political Institution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2209680"/>
            <a:ext cx="8763120" cy="464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ociety's political institutions reflect that society’s basic view of human n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mes Madison and the U.S. Founding Fathers were pessimistic about human na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equently, they designed a system of interlocking institutions with checks on each other so that “ambition could be made to counteract ambition.”</a:t>
            </a:r>
            <a:r>
              <a:rPr b="0" lang="en-US" sz="3000" spc="-1" strike="noStrike" u="sng" baseline="30000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[1]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James Madison, Federalist No. 51, in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Federalist Papers,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ed. Clinton Rossiter (New York: New American Library of World Literature, 1961), 32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Nature and Political Institu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2133360"/>
            <a:ext cx="876312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.S. system is designed to make it difficult for the government to infringe on citizens’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t also makes it difficult to get much done at 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uman Nature and Political Institu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2209320"/>
            <a:ext cx="883944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ing a more positive view of humankind, many other governments have simpler systems that make it far easier to enact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come at the cost of stability and may place the minority at the mercy of the majo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ality of Political Institu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880" y="1951200"/>
            <a:ext cx="8763120" cy="490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tical institutions reflect the values of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s can protect or weaken values such as democracy and personal freed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ly, institutions may bolster or impede the personal power and security of a lea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competing ideals and values in a society, the push for compromise quickly takes us away from anyone’s ideal instit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text, Evolution, and the Unbearable Weight of Histor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2103120"/>
            <a:ext cx="876312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overnment institutions have evolv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rarely designed or created from scr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when intentionally designed, nations seldom, if ever, have anything close to a blank page when they start creating a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every government’s institutions carry the legacy of gen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text, Evolution, and the Unbearable Weight of Histor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880" y="2103120"/>
            <a:ext cx="876312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revolutions may not lead to dramatic changes in instit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ation’s structures may have been imposed upon it by another source, such as a colonial po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institutions are shap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cessity and circum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always imperf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9:07:21Z</dcterms:created>
  <dc:creator>Mash Family</dc:creator>
  <dc:description/>
  <dc:language>en-US</dc:language>
  <cp:lastModifiedBy>Mosier, Daniel</cp:lastModifiedBy>
  <dcterms:modified xsi:type="dcterms:W3CDTF">2015-01-07T15:16:35Z</dcterms:modified>
  <cp:revision>59</cp:revision>
  <dc:subject/>
  <dc:title>Slide 1</dc:title>
</cp:coreProperties>
</file>