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92C6-F61C-4162-A5C5-7EC2C889A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58D0-D048-4519-8782-735F3D6C9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3D3F-2ED9-49E4-B0C6-B51A63889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CFE9-A425-4437-A1FA-13CB34049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CC0F-A711-4381-8786-B0DA36F3C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8CB-C1A1-4D43-9A7C-F898DBDA0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9A51-E5BC-438A-9C61-8ED44305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D9DB-8B6E-4EA3-B630-9437B4DB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1345-9820-40D8-B189-5CF10E16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3CB9-83EB-49CB-820C-A3BC5845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790B-4607-4B4C-BA18-9A77DB2AF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760D-346B-4B96-9AE3-559000F4E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2BB3-6700-43D4-8292-8E744C09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4F34-9729-4213-8B4A-EDE333BB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0EA8-04A5-415E-A239-0C86F3061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BDC-6E31-4D42-8061-4E4316A5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69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4E3-9D5E-4FFA-92B1-17A8DE79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C01-6F4E-4448-A2F6-FAA3495D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E9F-6C10-413D-AF38-D7F4CA51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151C-5511-4D1E-93C4-F6C07E5C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FB0D-760E-4086-BDCD-0FDB5C9F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5DCD-7818-4D20-A356-4EA97E80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065D-2D1F-49B4-85CC-A8BC234D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A6BF-1F6D-43B8-86AD-FD81F5E9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F5B7-D70B-4F13-AFF7-7519DBD2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320B-EC60-412C-A8E4-75EAD8A7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F07-2704-4E48-9A10-61D791F5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2B76-DF0B-44F0-81CD-2865B36A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E25C-735A-4144-894B-B09DBEFD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69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7B37-EFA5-42AA-8983-89D33C92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837A-6109-4199-BBAA-B2961FB2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69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5B78-BB27-4327-8531-8F5A83BE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F01-AC12-4450-A312-94AC5714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C0B-D531-4BC9-8946-1AF1F777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5EB-28DF-4C4D-9FB2-17DBE9FF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574-66C6-4D99-9B21-CF7DAD36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158-8B5F-48AD-A586-DCE4E105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69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3EB-8FA4-41BE-9700-E12E2D90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69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8DB-5C2A-4247-BD9C-E6368CFF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A09E-356D-4861-913B-AD14F07161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2808-20BE-475F-AD7C-CB4BFB103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8D9D-2B0B-4783-B6DA-EEC7CCBCA0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41E5-63CA-4AD8-BDEF-E93CDC415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youtu.be/KZDjPnzoge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youtu.be/IVwk6VIxBX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38400" y="1732320"/>
            <a:ext cx="8467200" cy="141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Government’s Role in the Economy: The Offer You Can’t Refus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ool of Labor as a Common Resource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179440"/>
            <a:ext cx="822960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consider the pool of laborers as a commons, a shared resource that capitalists exploit for economic gain, the concept of the tragedy of the commons is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competition among capitalists to reduce the cost of production results in a constant push to lower sal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ow salaries will eventually leave workers unable to buy the goods they produ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Pool of Labor as a Common Resource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09680"/>
            <a:ext cx="8229600" cy="464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arx theorized that workers would eventually become so desperate that they would see no alternative solution to the destruction of the system through rev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italism provides no way for individual capitalists to end the overexploitation; generous capitalists would be overtaken by market fo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1"/>
          <p:cNvSpPr/>
          <p:nvPr/>
        </p:nvSpPr>
        <p:spPr>
          <a:xfrm>
            <a:off x="3276720" y="6508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I Thought You Said There’d Be a Revolution?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s there no revolution as Marx predic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lution to this tragedy of the commons is, again, collective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government, individuals can be compelled to prevent the destruction of the commons through overexplo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457200" y="457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57200" y="457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I Thought You Said There’d Be a Revolution?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worker dissatisfaction and unrest threatened to grow into revolt, capitalists turned to gover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first force was used, but there is a limit to the effectiveness of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s gradually adopted policies that gave the workers some of what they demanded, including limitations on the exploitation of lab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276720" y="6508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ocialism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103120"/>
            <a:ext cx="8229600" cy="4754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x categorized political economic systems according to who controlled the means of pro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Feudalism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- craftsmen controlled their means of production; Land was the primary means of production, which was controlled by the church along with a hereditary eli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Capitalism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- individuals control the means of production, with little to no interference from the gover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Socialism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- is an economic system in which society controls the means of pro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ocialis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e socialism, just like pure capitalism, cannot work in pract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ism is very good at distributing goods but very inefficient at producing those go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his descriptions of socialism, Marx undervalued the role of human moti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ism is very inefficient because it undervalues the ability to motivate people to work harder, seek efficiencies, or excel at their cra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Ying and Yang of Capitalism and Socialism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133360"/>
            <a:ext cx="8229600" cy="472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of today’s functioning capitalist systems are mixtures of capitalism and social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of the things government does to regulate the market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government regulates businesses and polices the exploitation of labor, it uses principles of socialism to save capital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al question is not capitalism versus socialism, but what balance between the two systems is b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Government and the Econom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role of Government in the economy while often clearly defined, at other times it is more subtle or goes unnotic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relationship between economics and politics is much more complex, subtle, and dynamic than many people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Tragedy of the Comm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5486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ividually rational exploitation of shared resources to the detriment of the needs or interests of the community is known a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e tragedy of the comm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ragedy of the Common Chalk Talk Par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f people realize that everyone would benefit from preserving the shared resource 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nlightened self-intere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ndividuals will overexploit the commons if they believe others will cheat or take advantage of the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itation becomes th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rational ch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Tragedy of the Commons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lutions for the tragedy of the commons all involv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ollective ac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ragedy of the commons Chalk Talk Part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must be compelled to act in the best interest of all, even at an individual cost to themsel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policing and enforcement of laws make it rational for individuals to act in the collective best inte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Tragedy of the Comm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5120"/>
            <a:ext cx="8229600" cy="487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scape the tragedy of the commons, society uses government to control some of the means of production, the mechanisms for transforming labor into weal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a basic level,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pital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ocial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two perspectives on who should control the means of production: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ndividu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Karl Marx—Student of Capitalism?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179440"/>
            <a:ext cx="822960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exploration of the government’s role in the economy must examine the ideas o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arl Mar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x has been widely vilified, but he made important observations about the transformation of feudalism to capital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Adolescence of Capitalism: Feudalism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133360"/>
            <a:ext cx="8229600" cy="472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eudali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most production occurred within a peasant/landowner con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andowner controlled and owned the land, while the peasants raised crops and livestock on the landlord’s est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asants were obligated to give a substantial percentage of their production to the landlo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exploitative, this was a mutually dependent relation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Adolescence of Capitalism: Capitalis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179440"/>
            <a:ext cx="822960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apitali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ings were diffe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ists used factories as the means of production—that is, to transform labor into w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orers became easily replicable cogs in the productive machine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orers no longer controlled the means of prod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etition as the Driving Force in Capitalism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179440"/>
            <a:ext cx="8229600" cy="4678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driving force in capitalism is the competition between capital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 competition drives an endless quest for greater and greater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requires capitalists to continually cut costs and demand more from work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x saw the massive overexploitation of workers as the fatal flaw of capital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4T17:41:12Z</dcterms:created>
  <dc:creator>Mash Family</dc:creator>
  <dc:description/>
  <dc:language>en-US</dc:language>
  <cp:lastModifiedBy>Mosier, Daniel</cp:lastModifiedBy>
  <dcterms:modified xsi:type="dcterms:W3CDTF">2015-01-07T15:02:02Z</dcterms:modified>
  <cp:revision>47</cp:revision>
  <dc:subject/>
  <dc:title>Slide 1</dc:title>
</cp:coreProperties>
</file>