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4786-09B6-4DF6-BB27-59F6D1726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4ED6-2A61-47C7-A93C-D5FDD0208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0CDD-EFE8-4288-BD67-FDE7B7B62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C654-F6E7-4713-B93A-AF668C2D6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5A2D-68A5-4FDE-96EC-7C08B44D8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5A2D-2F58-4C0B-B3E2-9E23DADAF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CA6C-5265-4A54-93F2-911DD2CDE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C2BD-2DF7-4B18-93E8-78210EC71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1B26-66F6-43D9-8C7A-1C0AB93F0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670D-1709-4D2A-B89D-56811925F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9BCD-8BA6-4A3E-B8AC-2F5A0E77E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00AE-5A1B-42EF-912E-A53E60E71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ADE8-FA07-4088-9432-AB1D01E4C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F4F9-1837-4EDF-860A-B0D8883FA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B12F-03A8-4294-B74A-E3076E9EB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F437-4B41-486B-8349-2971FC408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9A81-A577-4225-A43C-4AEE3CDD9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CFA5-AA04-4754-8460-F5232F9C0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E965-4F81-4408-BB64-E929E26B8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915E-FCBD-4BD0-BC8D-C69E14B07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5B2-9DCE-4960-96E5-77B8DDF8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C1C-63BA-4323-B168-0B3CEE50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4AD-C7FC-409C-8A62-77936B32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C70-D937-435B-9DD7-385CC6C9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2804-37BC-47C1-9780-CD3A0907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1A99-EC97-4AA1-8AA8-A22A7A58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BB50-0ED0-4732-A68A-B583F044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F4B7-5782-4441-A348-61C80627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85B9-46CE-4AA8-8A7A-11385EE0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A1DC-AAC3-497D-89EE-0D7F3590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011C-C58D-4AA9-BE3B-2102DA39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0F0-D129-4238-A097-F33DD555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53A9-72D3-464C-A5C2-558064E4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C282-05EF-4A1D-A738-5C16C7DF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038F-15C1-42AF-8CF6-3736EC28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735E-BD50-4F07-A7B7-A98DE65C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34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D4BE-E7C1-49C0-9004-ECBD9804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8CA-C0D0-4ECE-894B-35E68D19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B12-D6FC-4795-8AAC-5FEF2054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ED2-AC78-4FA5-A48F-77650970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046-4641-434C-8C43-B2227E81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E0F-1C1E-4F3C-B0B0-22199FF9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4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7C8-9A04-4E95-8A35-F3112FAC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00E-EA7D-4253-AB94-3968BD65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448E-6182-4D6B-B4FE-45EC11EE3E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7235-861F-4042-BD05-D26B826CB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804E-2BEE-4D0B-B934-A0AE125900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1C7E-F453-4F47-9411-57B704B22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43080" y="1732320"/>
            <a:ext cx="8467200" cy="141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3. 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Governing Societ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e Know Who You Ar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980720"/>
            <a:ext cx="8229600" cy="495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Revolu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collective actions with the aim of tearing down and replacing the current gover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at the top of existing social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d politic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erarchies are driven by self-interest 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ctively oppo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collective effort to overthrow the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ese political leader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loy a variety of techniques to prevent revolutionary groups from form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llective Action, Revolution, and the Use of Forc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Atomization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153280" cy="480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alibri"/>
              </a:rPr>
              <a:t>Atomization is the process of keeping people (citizens) isolated from one anothe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eople isolated are less likely to form groups that could threaten a leader’s hold on pow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 the most extreme, a leader woul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see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prevent anyone from forming any kind of personal bond with anoth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accomplish this, leaders use two important mechanism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Peer polic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Preference falsif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tomization: Peer Polici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Calibri"/>
              </a:rPr>
              <a:t>Peer policing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s having people police each other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Leaders need to encourage citizens to engage in peer policing against potential revolutionari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Leaders might make it a crime to </a:t>
            </a:r>
            <a:r>
              <a:rPr b="1" i="1" lang="en-US" sz="31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report someone else’s efforts to form a revolutionary group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works particularly well if people believe that government agents will test individuals’ willingness to turn in other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Atomization: Peer Policing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s and their leaders can handle individual isolated revolutionary actions, but mass action may overwhelm a government’s policing and enforcement mechanis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policing happens in democracies as well as in totalitarian sta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think of examples of peer polic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tomization: Preference Falsification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eference falsific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hiding the way you truly feel while publicly expressing what those in power want to hear from y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long as people’s true feelings are hidden from view, how can potential revolutionaries even know if there are others who share their view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imits on Forceful Control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evel of force leaders must use to maintain control is related to the level of dissatisf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dissatisfaction is low, less force is necess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dissatisfaction with unresolved problems becomes high enough, desperation may overcome fear, and force may no longer be enoug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pushed too far, people will stand up to a bu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gitimacy and Government Control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752120"/>
            <a:ext cx="8305920" cy="487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stead of relying on force, threats, and punishments, leaders can maintain control by pursuing legitimac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Calibri"/>
              </a:rPr>
              <a:t>Legitimacy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is the voluntary acceptance of governmen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Pursuing a path of legitimacy can be an expensive long-term propositio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t is generally far cheaper in the short term to use force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gitimacy and Government Control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s can achieve or lose legitimacy in many way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staying in power a long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getting the blessing of a legitimate past le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convincing people that God sent the leaders to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inning popular el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oral democracies institutionalize revolt by giving citizens the power to keep or replace the gover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gitimacy and Conflict within Groups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World War I, researchers believed that conflict was something horrible and that conflict should be eradic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rg Simmel and later Lewis Coser pointed out that the complete elimination of conflicts could be equally bad, because conflict serves constructive func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gitimacy and Conflict within Group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a group is engaged in a conflict with another group, self-identification with the group increases and support for the leadership incre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group conflict (conflict within the group) can serve as a safety valve, reducing tensions caused by frust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rolling the Behavior of Othe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key differences between realists and idealists is the way they view human na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465120" y="2924280"/>
            <a:ext cx="3352680" cy="33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ali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lieve that humans are basically good and care for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quently, governments and their leaders should be judged by these ide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4948200" y="2924280"/>
            <a:ext cx="327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lieve that human beings care only about maximizing their own self-interes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expect no more from their lea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rosscutting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eavages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re are a variety of conflicts, divisions over them do not always coinc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disagree on one issue may agree o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vents society from dividing sharply over a single iss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ill be less hostile toward those they disagree with on one issue if they agree on other iss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flict as a Source of Legitimacy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conflict facilitates the resolution of the underlying cause of disagreement; resolving small issues can keep them from growing into large 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conflict also provides a foundation for developing compromi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45720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57200" y="228600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onflict as a Source of Legitimacy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lving conflict within the group enhances the public’s willingness to accept the group and its structures voluntar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enhances the legitimacy of the group and its lea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rolling the Behavior of Othe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udy of how governments need to control individuals is a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realist approa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examining politics, this perspective ask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benefi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hey benef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nswers to these two questions will usually provide a solid first step toward unraveling the political puzz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, the best line is: “Show me the power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rolling the Behavior of Other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 be argued that all leaders, regardless of the types of governments they head, try to maximize their self-intere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ndividual benefits might leaders pursu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oals might be selfish or altruistic, but the concept of leadership benefits is a powerful explanatory to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adership Benefit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eater the benefits to be gained from the leadership positio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re willing people are to take risks to achieve the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greater the lengths to which the leader will go to hold on to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anopticon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fundamental mechanisms leaders use to control large populations is based on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8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Centu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of the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Panoptico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sed on an eighteenth-century prison design by Jeremy Bentham, prisoners could be watched at any time, but they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never know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en they are being watch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3111480" y="836640"/>
            <a:ext cx="4965840" cy="51069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380880" y="552924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of the Panopt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43 (originally 17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Works of Jeremy Bentham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l. 4, 172–7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anopticon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nly way for the prisoners to avoid punishment was to police their own actions and serve as their own gu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ichel Foucaul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d that the panoptic control of a few guards over hundreds of prisoners is similar to how governments control large popul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anoptic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ffic Law enforcement is a modern day Panoptic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vast majority of time police presence on the roadways is minimal to non-exis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here alway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ou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a police officer around any bend in the r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elf-polic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s a few hundred police officers to control thousands of driv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ers use this same concept to prevent revolt and maintain contr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3T20:31:00Z</dcterms:created>
  <dc:creator>Mash Family</dc:creator>
  <dc:description/>
  <dc:language>en-US</dc:language>
  <cp:lastModifiedBy>Mosier, Daniel</cp:lastModifiedBy>
  <dcterms:modified xsi:type="dcterms:W3CDTF">2015-01-06T22:01:42Z</dcterms:modified>
  <cp:revision>80</cp:revision>
  <dc:subject/>
  <dc:title>A Novel Approach to Politics</dc:title>
</cp:coreProperties>
</file>