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2ED-08C0-43E8-9481-B6BC9C52B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C4E-B559-4466-8663-AFD498E7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36A-17A5-47CD-BF3D-2BC747ED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ED38-0799-4940-B325-5A0B966D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01A-0D33-48D6-AF41-4BAC8B81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6A7A-DAE8-4F46-B6F5-4E9B7DB3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D9A-3512-4450-B343-8A7C47FC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BCDD-BE38-440D-8E99-2EA5D996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153-7772-44B3-B313-BB41DF23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oad question to launch the le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3A78-3354-4C6C-B0D5-6ED05A57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7A6-4E7C-496D-ACF2-3B3D96B9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96A0-A953-4F51-B131-D63FE403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67B-4D9E-4D96-A4ED-3CE51E2C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5A2-66A1-46A2-B896-77408341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423-0F05-4F78-88F9-A3AE3ED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EB825-9B71-4EC5-882F-11594174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08C6-EE7C-4AD2-B2AB-819C28C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57A9E-A518-4AC6-AE02-3463BFA2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DDF0-2CC5-4139-9A78-9DC26B7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1AA26-469F-4611-8796-BDEC84D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6ADE1-DB81-4546-8A09-9E2A70ED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7896-A000-4045-BA9E-883FDBB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CFD9-35D0-42BC-9340-6CDCE095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74FD4-E30B-43FE-B821-ADB3828E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D9237-B3D4-4745-B8EE-D6E03BC4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4BB-93D1-4874-8A13-7C3DE53D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A0905-D929-47E4-BF08-4F21159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A8FBC-ABB3-4E9C-88B8-E72F4D7F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60A1-4F7E-476E-BF37-E2301666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0821B-D13E-42A4-84E3-BAC09130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5B289-6C98-41B7-87A2-86370BA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A2702-2CEE-41A4-B2EB-507F1D4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D84B-8591-4902-9AB8-F5F2FA4C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C4A33-CB6F-4D4A-A059-D8915265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9D16B-A8F7-494D-B46E-5990063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06506-0BF1-40F7-9E1C-9A4778BE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73B-D22E-4058-B588-A96406E6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94CBA-719E-408D-BA00-EACA54E1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DBACF-D28F-439D-853A-971BA033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A619E-AE0F-4101-832E-C5CC3153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68394-F086-4F49-8D3F-D84414B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52F2-7260-4855-A4B9-D902D72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F248-E75C-4240-A13A-F13619F4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E1D6-1511-4183-B9EB-A87672C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4B31-7EC4-44A9-9C0E-F9E63FCC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366D-86FF-4CCE-BE64-C776F77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13C7D-A786-45F1-AC20-C7DEE715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AC60-C573-4A9D-B672-48D22531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D876-029C-4C35-8D5C-12C59B3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C22B8-153A-4FFC-B1F3-8F27719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7B157-8A9A-4938-B085-71949357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CB54-7C48-46ED-9F62-E45BD22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27EB-E596-4EE4-8F49-4D208E8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3CAC-0EFD-4A83-A774-DEA04E8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BDCF-AF4A-4FA7-9CD1-CEADDCE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F3B7-1AAF-4251-AA3F-7F1FDB45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BC08-7309-4C65-9D3C-34740122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BA1-A46A-492C-A9DB-A9DE477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8D1C-4826-4ACD-A4A9-EBA8202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E0FD-F54A-4A49-A5FF-0A44931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F09C-DB21-4D0B-8179-48B372F9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483-3689-4471-B036-9BEF018B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33F-0C0D-4F0A-BFCB-BA90C470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6A97-01B4-4686-AEE1-691C0F4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3BE9-4ECA-4A21-A279-D1C1B17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B34B-50A5-488C-8154-B2BBA877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BDFF-26C7-4F99-B0A4-8E32A42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B0B4-6B54-4EE1-9829-3844838B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8A9-520B-4695-9F40-213A3474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60D7-B914-4CB4-A318-3A84CD2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925E-D6F8-4808-82DE-1F42FDD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B602-CA73-4A7E-AA35-CFFBD64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691E-74AB-41E1-B7FC-F156527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0052-9EF6-4DC5-8CE6-79320A44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3C46-32D8-4D5D-ACEC-6C257A1B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5E53-433F-472C-8C06-9997358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4599-8C16-49DB-B161-7EAD3E64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4FD3-8A28-4723-8E93-EE4AB39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F0F4-D4D6-42D9-8C52-7D0D4B8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A65-B7CB-4E33-9967-9A09EC16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76CA-01A9-4514-BFA8-A150784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52C0-9EB4-4777-88A9-EFED195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BBDD-5689-428F-8E57-FB8E124C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EBEB-E9D7-46F7-802B-D82135C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E59F-77D4-4734-95F9-359E353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1FFE-621B-45A0-8D08-B207FF1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785C-496F-497D-870F-9F81FE0D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F169-6536-4064-9479-1277B530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9B99-B8FD-4C78-AA34-C87732CD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F4F4-7E96-42D5-A74C-16639DD4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85F-CD93-4D03-8009-B984B9B4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53536-2F4A-4A5C-9D3A-2B4ABB09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7B4A-5285-4EA5-8698-ACCF993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D195-FE8F-4BB7-9BF3-5FCB53F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A50C-35E8-4085-BB15-87BEA00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0072-5A37-4B37-B668-13EA3E3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1E63-5168-41BD-A731-0B4EFD4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E43C-C817-45C5-B1E2-EF0BEFA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C473-3530-4CAD-903D-BA39E4C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A5E0-3B3F-4E3F-810F-FA041522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E463-C239-4707-857A-C002C6AD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BD8-4B33-4A91-8A3A-B5C1F812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934E-F2DC-4714-BC22-7F0D3CCD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7427-F4D7-473C-97F8-9E8B43C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0721A-C2BC-4771-8516-A0054AB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B046-B069-436B-92CE-2CD2ABEF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2938F-0EB8-423E-8F81-329E9BD9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DB189-88AE-4FC1-A18C-31AA2F0A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D4DB1-95B3-43AF-A9A6-83EA2FD6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E3B1-74E2-48CD-963A-63E6A28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F319-603E-4D05-8F93-2D12F07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E66C-D955-423B-B337-38EE168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075-0FBA-404E-95DC-08218EB4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04DA-87EA-4167-BC4A-C420CC0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D187-E331-43AF-A0FC-C30731D4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2113-6200-4F5B-BA90-4C5F0C7C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9EFD-274C-4969-8822-0FB7240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E816-7C23-4DF0-A807-B984C03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75CA-6CBA-4AB3-AEE1-2A959A32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C9EB-C36A-4093-9B5F-3A89CEC9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A869-374D-45A3-BFFE-06DB0AD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B0FA9-9544-4439-91D4-F86731D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5C598-3F9E-4728-9152-187BB61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A90-2F58-4654-B88F-F91A5B2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E7A5-9EEF-44A2-A0C9-76A2E98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E446-ED9D-41BD-B59F-3997219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7210-63C9-4F06-9D74-B8B98CE0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5F60-3F81-493E-97E9-D52575A2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001A-6345-4C0F-AA54-4AF032B7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117DD-B418-4C02-9F97-814B8D8B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5437-7A80-4064-AB84-F8293AB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FB1F-A375-40EA-99CA-2F96C2EE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53B2-CEF1-48B5-B45D-DC3C0169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B1C0-9C7D-432C-941B-1EDBD8CF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2F0-E9A6-48F2-A0DD-E668CF8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AFB8E-F91A-46D2-ADC7-B10A851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4D15-8FBB-4A73-B113-08B8375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B27A6-AF35-4856-B8C7-07CE85B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67B1-0426-4185-81AA-CD6B399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31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8D19-E56E-4E84-B350-45EF437A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51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31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36D8-8D30-4014-AC05-D03868C2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51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31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C280-DAAF-452A-8FBE-8D47A292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6448F-5489-4503-BCFF-32C942A3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6EB9-492E-43E1-9B42-7DAC3C5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A0369-9EA3-461F-9AAD-E7FFE1BD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184-478B-487C-B66F-81433722E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1A3-DE26-4C02-A1A9-4CA10726A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60C2-2910-4D63-AD1B-2920DE3C4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5799-3D49-46E2-BCC1-40131007D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B0B-FEF3-420C-BAC2-5004BC8C9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8F27-E549-4126-B5B9-F66EA9186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3A0-F630-4A39-AA9D-DCA9DD7B0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AE74-4622-474C-A7A8-218E19F24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9C2-1413-40CA-A9A6-EF59E46E4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A37F-710C-472F-9238-512D53AD8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CE2E-D957-4444-9E75-8D545259A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BC9-4ED0-4368-8E8B-C975125B4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C6B-047D-4711-8F29-D34EE3337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F65-9764-4B1B-9937-B10B6F880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CF85-36A9-42E6-A4C7-D96C723920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6D0-B27B-45B7-A502-1614D4514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F05-1606-40E5-A89D-F972FF9C8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8404-3A2B-493C-8FB4-33A19B330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63C-3B53-46D5-92E6-804D77478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AEBE-B12B-4AF0-A1E3-0D68148E9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336-BA05-4227-BE32-665FBB0B1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27D-05D3-4B5D-909A-F2AB8D3FE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38400" y="1656000"/>
            <a:ext cx="8467200" cy="141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2. Why Government? Security, Anarchy, and Some Basic Group Dynamic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narchy and Powe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anarchic environment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ultimate re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hierarchical situation,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ercive pow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authority structure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the weak from the str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an anarchic environment, such individual or national (group) security is mis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n Impetus for Government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rchy can be thought of as the source of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anarchic environment the vast majority of people survive in a context of constant fear and constant thr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llective pursui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vides an escape from this thr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Context of Hierarchy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ocieties form governments, they form institutionalized hierarch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ontexts employ different hierarch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5530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or groups combine resources and abilities in alliances that benefit the individual members of the alli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cs of alliance formation can illuminate how governmental structures eme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alliance that is ultimately successful will form a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vernment results from the group’s need to institutionalize its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roup Identitie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gree to which members identify with a group and identify who i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t of that group can affect the group’s strength, cohesiveness, and surviv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mbership can often be amorph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8288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Group Identitie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1760" y="1905120"/>
            <a:ext cx="838188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you can absolutely define those who are not in your group by instigating a conflict with them (the “other” or enem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gree to which people consider themselves part of a group increases when that group is engaged in conflict with anoth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eadership Interest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usually form for specific purposes, but they also tend to continue even after they have accomplished those purpo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ers of such groups have made tremendous investments in building the groups, and they derive benefits from the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eadership Interests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21798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ubsequently have an interest in the continued existence of their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what groups—or governments—do is determined by the interest of the lea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What is the purpose of Governmen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06" name="Content Placeholder 4" descr="Why Government Wordle.tiff"/>
          <p:cNvPicPr/>
          <p:nvPr/>
        </p:nvPicPr>
        <p:blipFill>
          <a:blip r:embed="rId1"/>
          <a:srcRect l="-20249" t="0" r="-20249" b="0"/>
          <a:stretch/>
        </p:blipFill>
        <p:spPr>
          <a:xfrm>
            <a:off x="838080" y="1951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7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ollective Action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33160" y="1905120"/>
            <a:ext cx="8381880" cy="4952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llective ac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ordinated group action designed to achieve a common goal that individuals acting on their own could not otherwise obt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s of things can we do through government that we can’t do on our 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nd maintain road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and maintain libr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ct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imary collective action provided by government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llective secur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ecurity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8080" y="18288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ability to protect something of val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 L. Job defines four securities critical to developing n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tate security (protecting border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gime security (protecting the power of ruler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ational security (protecting groups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dividual security (protecting individuals)</a:t>
            </a:r>
            <a:r>
              <a:rPr b="0" lang="en-US" sz="3200" spc="-1" strike="noStrike" u="sng" baseline="30000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[1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rian L. Job, ed.,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he Insecurity Dilemma: National Security of Third World St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Boulder, Colo.: Lynne Rienner, 199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ecurity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62120" y="1447560"/>
            <a:ext cx="8229600" cy="5105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 of Job’s four typ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ed States Immigration Reform Deb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BOL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me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ublican and Democratic Parties in 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vil Rights Mo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hael Brown and Eric Garner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hael Brown and Eric Garner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ge Campus Sexual Assault Awareness and 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ability to get something d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key variable in poli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associated with the use of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power is often employed much more sub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think of any relationships that employ the subtle use of po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–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e Officer–Motor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or–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ent–Chi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do Politicians us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owe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olitical capi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fers to an official’s reserve of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tical leaders earn (and spend)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olitical capital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winning elections, pursuing publicly supported policies, and exchanging favors with other political lea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of power used in a particular situation depends on the particular political and social con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narch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951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arch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fers to an absence of any kind of overarching authority or hierarc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archy is often associated with chaos, but this need not be the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anarchists believe that humans are capable of peacefully intermingling without formalized governmental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hierarchical situation, the freedom and the power of the individual are constra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5689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2016 SAGE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3T17:15:46Z</dcterms:created>
  <dc:creator>Mash Family</dc:creator>
  <dc:description/>
  <dc:language>en-US</dc:language>
  <cp:lastModifiedBy>Mosier, Daniel</cp:lastModifiedBy>
  <cp:lastPrinted>2012-09-30T14:04:35Z</cp:lastPrinted>
  <dcterms:modified xsi:type="dcterms:W3CDTF">2015-01-06T21:55:07Z</dcterms:modified>
  <cp:revision>115</cp:revision>
  <dc:subject/>
  <dc:title>A Novel Approach to Politics</dc:title>
</cp:coreProperties>
</file>