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7AF-810E-46FA-B250-0BCD1EDE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2D6-6F85-42E7-BA3C-A7394207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A11-05B7-48A4-8FC8-2929D7CE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3A9-253E-45F5-A8AA-CE629FB6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0B1-6812-4F12-9536-240FC30C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201-64AC-460C-BD52-DBCDF1E6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9A4-69BE-4A5C-8F39-7044BCC0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D5F-96E1-4F02-B88B-1DF0177F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8FC-8995-474F-BF9F-FA24A8DE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464-C5B9-4424-9C3B-EDEAADB1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2DD-DF12-4CD8-92E8-A531571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FCC-B433-4083-840E-A7608E3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9661-E918-4FC9-877B-69C315297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Newman_5e_Exhibit 13.1.jpg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Newman_5e_Exhibit 13.2.jpg"/>
          <p:cNvPicPr/>
          <p:nvPr/>
        </p:nvPicPr>
        <p:blipFill>
          <a:blip r:embed="rId1"/>
          <a:stretch/>
        </p:blipFill>
        <p:spPr>
          <a:xfrm>
            <a:off x="1787400" y="0"/>
            <a:ext cx="556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Newman_5e_Exhibit 13.3.jpg"/>
          <p:cNvPicPr/>
          <p:nvPr/>
        </p:nvPicPr>
        <p:blipFill>
          <a:blip r:embed="rId1"/>
          <a:stretch/>
        </p:blipFill>
        <p:spPr>
          <a:xfrm>
            <a:off x="1971720" y="0"/>
            <a:ext cx="520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Newman_5e_Exhibit 13.4.jpg"/>
          <p:cNvPicPr/>
          <p:nvPr/>
        </p:nvPicPr>
        <p:blipFill>
          <a:blip r:embed="rId1"/>
          <a:stretch/>
        </p:blipFill>
        <p:spPr>
          <a:xfrm>
            <a:off x="185760" y="0"/>
            <a:ext cx="877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4T11:58:07Z</dcterms:created>
  <dc:creator>Meenakshi_CMT162</dc:creator>
  <dc:description/>
  <dc:language>en-US</dc:language>
  <cp:lastModifiedBy>Meenakshi_CMT162</cp:lastModifiedBy>
  <dcterms:modified xsi:type="dcterms:W3CDTF">2016-08-04T11:59:59Z</dcterms:modified>
  <cp:revision>1</cp:revision>
  <dc:subject/>
  <dc:title>Slide 1</dc:title>
</cp:coreProperties>
</file>