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31C-40C6-4C0C-881F-5A77FAAE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E41-3185-49C5-B79F-DDEBD2C8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8C5-5EB0-42B3-979C-0FFE88CF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A17-1B19-4DC9-8F33-2BF22316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DC8-1AA4-45DE-B4C3-A4483F53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596-722F-4886-A1D7-C52732BE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3C3-8557-4FE0-841B-9D5B4E4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9F8-13E1-4568-9A31-0A9E17DC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B13-6A02-4042-A187-39A0ACF9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CD5-F30A-4967-900D-6897CD8D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2DF-71B4-47E5-8269-9B7B2871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5F8-CCE2-4C62-B7E3-B8FE0221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BAFC-2FEB-4761-8FE2-628616CFA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12.1.jpg"/>
          <p:cNvPicPr/>
          <p:nvPr/>
        </p:nvPicPr>
        <p:blipFill>
          <a:blip r:embed="rId1"/>
          <a:stretch/>
        </p:blipFill>
        <p:spPr>
          <a:xfrm>
            <a:off x="114480" y="0"/>
            <a:ext cx="891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ewman_5e_Exhibit 12.2.jpg"/>
          <p:cNvPicPr/>
          <p:nvPr/>
        </p:nvPicPr>
        <p:blipFill>
          <a:blip r:embed="rId1"/>
          <a:stretch/>
        </p:blipFill>
        <p:spPr>
          <a:xfrm>
            <a:off x="1184400" y="0"/>
            <a:ext cx="677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Newman_5e_Exhibit 12.3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Newman_5e_Exhibit 12.4.jpg"/>
          <p:cNvPicPr/>
          <p:nvPr/>
        </p:nvPicPr>
        <p:blipFill>
          <a:blip r:embed="rId1"/>
          <a:stretch/>
        </p:blipFill>
        <p:spPr>
          <a:xfrm>
            <a:off x="0" y="92556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7:43Z</dcterms:created>
  <dc:creator>Meenakshi_CMT162</dc:creator>
  <dc:description/>
  <dc:language>en-US</dc:language>
  <cp:lastModifiedBy>Meenakshi_CMT162</cp:lastModifiedBy>
  <dcterms:modified xsi:type="dcterms:W3CDTF">2016-08-04T11:57:55Z</dcterms:modified>
  <cp:revision>1</cp:revision>
  <dc:subject/>
  <dc:title>Slide 1</dc:title>
</cp:coreProperties>
</file>