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AE1-39CE-4732-9716-21BC34E3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2A4-0735-4DE8-BA21-BFB5A5EE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546-9D05-4D88-8C1D-776E0ADE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E0B-BB2E-46A0-AFAF-E292AACE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404-A867-4C01-8D16-9BC016A8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BE5-7A90-4E3C-B021-67B8C4FC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8AA5-D775-422E-B827-34C0E230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342-5526-465E-A757-4F9715B1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8E1-D45B-4086-9854-88D0790D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E29-C026-4A13-99CB-9162A1BB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9C2-B3ED-46E7-8127-4F9A8889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463-6077-4153-AAFF-1147DA63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3AE8-8A12-4512-A16E-EEFC4EDAE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Newman_5e_Exhibit 11.1.jpg"/>
          <p:cNvPicPr/>
          <p:nvPr/>
        </p:nvPicPr>
        <p:blipFill>
          <a:blip r:embed="rId1"/>
          <a:stretch/>
        </p:blipFill>
        <p:spPr>
          <a:xfrm>
            <a:off x="673200" y="0"/>
            <a:ext cx="779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Newman_5e_Exhibit 11.2.jpg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Newman_5e_Exhibit 11.3.jpg"/>
          <p:cNvPicPr/>
          <p:nvPr/>
        </p:nvPicPr>
        <p:blipFill>
          <a:blip r:embed="rId1"/>
          <a:stretch/>
        </p:blipFill>
        <p:spPr>
          <a:xfrm>
            <a:off x="100080" y="0"/>
            <a:ext cx="894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Newman_5e_Exhibit 11.4a.jpg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Newman_5e_Exhibit 11.4b.jpg"/>
          <p:cNvPicPr/>
          <p:nvPr/>
        </p:nvPicPr>
        <p:blipFill>
          <a:blip r:embed="rId1"/>
          <a:stretch/>
        </p:blipFill>
        <p:spPr>
          <a:xfrm>
            <a:off x="311040" y="0"/>
            <a:ext cx="85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4T11:57:12Z</dcterms:created>
  <dc:creator>Meenakshi_CMT162</dc:creator>
  <dc:description/>
  <dc:language>en-US</dc:language>
  <cp:lastModifiedBy>Meenakshi_CMT162</cp:lastModifiedBy>
  <dcterms:modified xsi:type="dcterms:W3CDTF">2016-08-04T11:57:30Z</dcterms:modified>
  <cp:revision>1</cp:revision>
  <dc:subject/>
  <dc:title>Slide 1</dc:title>
</cp:coreProperties>
</file>