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9A4-97A0-4635-A93C-31BADD7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E6F-1CD6-42C9-8DE5-A4595EE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344-854F-4523-A465-681711AC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E56-6245-4DA1-ACC7-F07C287E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455-B85D-40A7-9401-F20F8B60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DA5-6CEC-44EF-8204-18F724AA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A73-043B-475F-925B-D72C158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FFB-49CF-4DDA-9C94-5C401851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71C-390A-4898-9499-63FB60C9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A74-E87F-424D-A462-89C26918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9CF-1C8C-46EC-AD58-9E164CD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954-4147-4A7B-BF6C-14B5B2A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09B-05B6-4491-A5B5-2917D5A57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10.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10.2.jpg"/>
          <p:cNvPicPr/>
          <p:nvPr/>
        </p:nvPicPr>
        <p:blipFill>
          <a:blip r:embed="rId1"/>
          <a:stretch/>
        </p:blipFill>
        <p:spPr>
          <a:xfrm>
            <a:off x="1347840" y="0"/>
            <a:ext cx="64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10.3.jpg"/>
          <p:cNvPicPr/>
          <p:nvPr/>
        </p:nvPicPr>
        <p:blipFill>
          <a:blip r:embed="rId1"/>
          <a:stretch/>
        </p:blipFill>
        <p:spPr>
          <a:xfrm>
            <a:off x="492120" y="0"/>
            <a:ext cx="815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Newman_5e_Exhibit 10.4.jpg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Newman_5e_Exhibit 10.5.jpg"/>
          <p:cNvPicPr/>
          <p:nvPr/>
        </p:nvPicPr>
        <p:blipFill>
          <a:blip r:embed="rId1"/>
          <a:stretch/>
        </p:blipFill>
        <p:spPr>
          <a:xfrm>
            <a:off x="457200" y="0"/>
            <a:ext cx="82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Newman_5e_Exhibit 10.6.jpg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6:35Z</dcterms:created>
  <dc:creator>Meenakshi_CMT162</dc:creator>
  <dc:description/>
  <dc:language>en-US</dc:language>
  <cp:lastModifiedBy>Meenakshi_CMT162</cp:lastModifiedBy>
  <dcterms:modified xsi:type="dcterms:W3CDTF">2016-08-04T11:56:53Z</dcterms:modified>
  <cp:revision>1</cp:revision>
  <dc:subject/>
  <dc:title>Slide 1</dc:title>
</cp:coreProperties>
</file>