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EAE-DB76-4882-B9DF-C847A964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DDB-FB2D-4362-9474-A74106F1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E7A-9AF9-4DE4-8B18-7B29CCD4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EB6-411D-4EF2-9BB5-5B887A19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950-BA91-4896-A798-82478D87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807-D016-4DE1-8F9C-F67C6B4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E28-162C-44D1-A6E8-34393AFC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475-F4C9-41F2-9E44-63BF173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3C9-F97C-427B-9ED7-CCCC2A6F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1C2-DE6B-4615-BA72-E7E0B7EC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FB0-21A5-40AD-AA5C-0C8B86B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3E2-0C39-496C-BB0D-E025C6C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FBE-AB9A-4646-8C92-0DAF499AE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9.1.jpg"/>
          <p:cNvPicPr/>
          <p:nvPr/>
        </p:nvPicPr>
        <p:blipFill>
          <a:blip r:embed="rId1"/>
          <a:stretch/>
        </p:blipFill>
        <p:spPr>
          <a:xfrm>
            <a:off x="316080" y="0"/>
            <a:ext cx="85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9.2.jpg"/>
          <p:cNvPicPr/>
          <p:nvPr/>
        </p:nvPicPr>
        <p:blipFill>
          <a:blip r:embed="rId1"/>
          <a:stretch/>
        </p:blipFill>
        <p:spPr>
          <a:xfrm>
            <a:off x="1235160" y="0"/>
            <a:ext cx="667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6:06Z</dcterms:created>
  <dc:creator>Meenakshi_CMT162</dc:creator>
  <dc:description/>
  <dc:language>en-US</dc:language>
  <cp:lastModifiedBy>Meenakshi_CMT162</cp:lastModifiedBy>
  <dcterms:modified xsi:type="dcterms:W3CDTF">2016-08-04T11:56:16Z</dcterms:modified>
  <cp:revision>1</cp:revision>
  <dc:subject/>
  <dc:title>Slide 1</dc:title>
</cp:coreProperties>
</file>