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E07-5D98-42AA-9B01-0257A27D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014-73E3-4C75-93B7-F7063D25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1B2-6D07-482F-9F67-FBAD5618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4D1-FEF1-4EDD-A0E5-17A05202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C18-4FE6-4097-B557-7333523E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E55-3E74-43CB-B4E6-844F08E1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AE5-351F-4E33-84DC-4FCC5016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FCA-5911-4551-8254-95EE3BF6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378-2712-4CAB-A612-0A7E68F8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BCB-8218-4255-9884-6DD3930E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9CD-4AC3-4EA2-8588-187F0C8F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4E4-78E9-4894-8973-F489B841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5D8D-6F7E-412D-949E-B4AB02F0D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man_5e_Exhibit 8.1.jpg"/>
          <p:cNvPicPr/>
          <p:nvPr/>
        </p:nvPicPr>
        <p:blipFill>
          <a:blip r:embed="rId1"/>
          <a:stretch/>
        </p:blipFill>
        <p:spPr>
          <a:xfrm>
            <a:off x="523800" y="0"/>
            <a:ext cx="809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ewman_5e_Exhibit 8.2.jpg"/>
          <p:cNvPicPr/>
          <p:nvPr/>
        </p:nvPicPr>
        <p:blipFill>
          <a:blip r:embed="rId1"/>
          <a:stretch/>
        </p:blipFill>
        <p:spPr>
          <a:xfrm>
            <a:off x="23760" y="0"/>
            <a:ext cx="909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Newman_5e_Exhibit 8.3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11:55:45Z</dcterms:created>
  <dc:creator>Meenakshi_CMT162</dc:creator>
  <dc:description/>
  <dc:language>en-US</dc:language>
  <cp:lastModifiedBy>Meenakshi_CMT162</cp:lastModifiedBy>
  <dcterms:modified xsi:type="dcterms:W3CDTF">2016-08-04T11:55:56Z</dcterms:modified>
  <cp:revision>1</cp:revision>
  <dc:subject/>
  <dc:title>Slide 1</dc:title>
</cp:coreProperties>
</file>