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C574-72FE-418D-91F1-06BFAB0E0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1ACA-5EB9-41C0-B031-01AE909E9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575C-D267-4FA3-A8AE-ABE076B29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3493-EEC7-426C-8EAB-C306DA4A0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E0A7-6F33-4CDD-803D-3CA8B7097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786E-0E0F-42D5-9414-7C8DAF2A4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3FF5-1DC5-4151-B903-C9792DE46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659B-8F6D-4349-8C86-360FE1495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E7B2-9DF1-4012-ADEE-0C7408012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7937-704B-4E99-B7E2-4ADADA505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E8EE-2386-494A-BBA5-41063B045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5A5B-B278-4D73-9C33-10EF8B235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20DCF-F1D0-4B13-886F-FF8D77BC39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Newman_5e_Exhibit 7.1.jpg"/>
          <p:cNvPicPr/>
          <p:nvPr/>
        </p:nvPicPr>
        <p:blipFill>
          <a:blip r:embed="rId1"/>
          <a:stretch/>
        </p:blipFill>
        <p:spPr>
          <a:xfrm>
            <a:off x="142920" y="0"/>
            <a:ext cx="885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Newman_5e_Exhibit 7.2.jpg"/>
          <p:cNvPicPr/>
          <p:nvPr/>
        </p:nvPicPr>
        <p:blipFill>
          <a:blip r:embed="rId1"/>
          <a:stretch/>
        </p:blipFill>
        <p:spPr>
          <a:xfrm>
            <a:off x="290520" y="0"/>
            <a:ext cx="8562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Newman_5e_Exhibit 7.3.jpg"/>
          <p:cNvPicPr/>
          <p:nvPr/>
        </p:nvPicPr>
        <p:blipFill>
          <a:blip r:embed="rId1"/>
          <a:stretch/>
        </p:blipFill>
        <p:spPr>
          <a:xfrm>
            <a:off x="0" y="206280"/>
            <a:ext cx="9144000" cy="64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Newman_5e_Exhibit 7.4.jpg"/>
          <p:cNvPicPr/>
          <p:nvPr/>
        </p:nvPicPr>
        <p:blipFill>
          <a:blip r:embed="rId1"/>
          <a:stretch/>
        </p:blipFill>
        <p:spPr>
          <a:xfrm>
            <a:off x="0" y="272880"/>
            <a:ext cx="9144000" cy="63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04T11:55:19Z</dcterms:created>
  <dc:creator>Meenakshi_CMT162</dc:creator>
  <dc:description/>
  <dc:language>en-US</dc:language>
  <cp:lastModifiedBy>Meenakshi_CMT162</cp:lastModifiedBy>
  <dcterms:modified xsi:type="dcterms:W3CDTF">2016-08-04T11:55:33Z</dcterms:modified>
  <cp:revision>1</cp:revision>
  <dc:subject/>
  <dc:title>Slide 1</dc:title>
</cp:coreProperties>
</file>