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E75-8D48-4727-8DE7-5CA46420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06C8-6FF7-49F1-8610-D36E8AAC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97C0-6BB7-49CC-A044-97813C56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141-4DB2-4FB8-8630-633B963C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D8C-C2B0-403C-8CFA-86C530B6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7145-B75E-4D5C-99EC-2E592FDC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B9C-DFD3-4B01-96AA-59E3E054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5E1-D40C-4B61-994B-E90B1BB0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D36-B35E-4C6A-8528-5F460B8D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36D-FAAB-43F7-803D-A73829EC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5F3-A0AD-4A9E-ACA4-2799CE42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4CB-37A9-480A-BA84-7A92FA5C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D1C9-E908-4192-B9A9-57E780B73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Newman_5e_Exhibit 5.1.jpg"/>
          <p:cNvPicPr/>
          <p:nvPr/>
        </p:nvPicPr>
        <p:blipFill>
          <a:blip r:embed="rId1"/>
          <a:stretch/>
        </p:blipFill>
        <p:spPr>
          <a:xfrm>
            <a:off x="195120" y="0"/>
            <a:ext cx="875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4T11:54:58Z</dcterms:created>
  <dc:creator>Meenakshi_CMT162</dc:creator>
  <dc:description/>
  <dc:language>en-US</dc:language>
  <cp:lastModifiedBy>Meenakshi_CMT162</cp:lastModifiedBy>
  <dcterms:modified xsi:type="dcterms:W3CDTF">2016-08-04T11:55:07Z</dcterms:modified>
  <cp:revision>1</cp:revision>
  <dc:subject/>
  <dc:title>Slide 1</dc:title>
</cp:coreProperties>
</file>