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86A-73F8-4D22-BB9D-79626ED1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BE7-7D42-4274-AEF1-A8204B13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16E-21E2-4547-B4DB-10C841E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436-545A-4D76-9634-0A6C3F7B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408-3E5A-4754-B86F-0BEABED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5BF-8982-4908-8712-E6CA94A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672-5545-4741-A24B-0848CEA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A45-8FF1-49D4-98F9-65EBE7D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C79-E71E-42B6-965A-E48E2355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7D-E1B9-418D-A477-985CAA7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44F-12BA-4E10-8CCA-1BA6D1A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662-4FD8-49DA-B7A5-B59A038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DDFA-09F7-44E6-A30B-C63B029A0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3.1.jpg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4:41Z</dcterms:created>
  <dc:creator>Meenakshi_CMT162</dc:creator>
  <dc:description/>
  <dc:language>en-US</dc:language>
  <cp:lastModifiedBy>Meenakshi_CMT162</cp:lastModifiedBy>
  <dcterms:modified xsi:type="dcterms:W3CDTF">2016-08-04T11:54:51Z</dcterms:modified>
  <cp:revision>1</cp:revision>
  <dc:subject/>
  <dc:title>Slide 1</dc:title>
</cp:coreProperties>
</file>