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97C-6D2C-47C9-8804-931E1DD8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60A-1EB0-4FDE-B4BB-ADC07205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139-BDFE-4B0C-8923-B2C07883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432-BE37-4D70-8E96-A4C5EE9D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B77-14EE-47EA-B1CF-A523B40A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9CF9-C4DE-4A72-AB9B-B3D71EEF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144-24F1-49ED-B7CD-D21D6C19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5AF-7F93-4ABC-8129-6F06A1B5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611-589C-4DF8-B601-42FE188A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762-6353-4733-B13D-85087D4F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F39B-2C01-43F5-BC99-28C87A7F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B4A-5F35-4803-8B3A-D0C51E26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6DA6-C61E-4CC9-A296-0A3D3E5F1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Newman_5e_Exhibit 2.1.jpg"/>
          <p:cNvPicPr/>
          <p:nvPr/>
        </p:nvPicPr>
        <p:blipFill>
          <a:blip r:embed="rId1"/>
          <a:stretch/>
        </p:blipFill>
        <p:spPr>
          <a:xfrm>
            <a:off x="1469880" y="0"/>
            <a:ext cx="620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Newman_5e_Exhibit 2.2.jpg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4T11:53:55Z</dcterms:created>
  <dc:creator>Meenakshi_CMT162</dc:creator>
  <dc:description/>
  <dc:language>en-US</dc:language>
  <cp:lastModifiedBy>Meenakshi_CMT162</cp:lastModifiedBy>
  <dcterms:modified xsi:type="dcterms:W3CDTF">2016-08-04T11:54:21Z</dcterms:modified>
  <cp:revision>1</cp:revision>
  <dc:subject/>
  <dc:title>Slide 1</dc:title>
</cp:coreProperties>
</file>