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D709-FCBD-4AE7-865E-AA7653420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50E2-BB77-43AD-92A4-CBAC61247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724C-D5B2-4244-AE2F-9FC520733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F0EF-AEAD-407B-B2AC-798BAB506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B5C2-420A-4BC2-8CFD-DE444853D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30D3-FC0A-4DBA-B1CC-F1968EE14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06B3-1B42-4AC6-8D2C-E2A5B0E79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43CF-2570-4D00-8325-975BCCA2D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1D59-1AFF-4352-B6A2-349DDB585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DF8E-6720-42A0-BCFB-9DCC26EFA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7304-BF17-4A50-8FA5-FD4629C4E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4776-BC68-449D-8A98-99404C2A3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DC4C0-838C-49F9-8144-1E7AA26A37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Leon-Guerrero_5e_Figure 17.1.jpg"/>
          <p:cNvPicPr/>
          <p:nvPr/>
        </p:nvPicPr>
        <p:blipFill>
          <a:blip r:embed="rId1"/>
          <a:stretch/>
        </p:blipFill>
        <p:spPr>
          <a:xfrm>
            <a:off x="841320" y="0"/>
            <a:ext cx="7461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Leon-Guerrero_5e_Figure 17.2.jpg"/>
          <p:cNvPicPr/>
          <p:nvPr/>
        </p:nvPicPr>
        <p:blipFill>
          <a:blip r:embed="rId1"/>
          <a:stretch/>
        </p:blipFill>
        <p:spPr>
          <a:xfrm>
            <a:off x="631800" y="0"/>
            <a:ext cx="7880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Leon-Guerrero_5e_Figure 17.3.jpg"/>
          <p:cNvPicPr/>
          <p:nvPr/>
        </p:nvPicPr>
        <p:blipFill>
          <a:blip r:embed="rId1"/>
          <a:stretch/>
        </p:blipFill>
        <p:spPr>
          <a:xfrm>
            <a:off x="0" y="466560"/>
            <a:ext cx="9144000" cy="592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Leon-Guerrero_5e_Table 17.1.jpg"/>
          <p:cNvPicPr/>
          <p:nvPr/>
        </p:nvPicPr>
        <p:blipFill>
          <a:blip r:embed="rId1"/>
          <a:stretch/>
        </p:blipFill>
        <p:spPr>
          <a:xfrm>
            <a:off x="0" y="984240"/>
            <a:ext cx="9144000" cy="48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22T09:15:47Z</dcterms:created>
  <dc:creator>conversion</dc:creator>
  <dc:description/>
  <dc:language>en-US</dc:language>
  <cp:lastModifiedBy>conversion</cp:lastModifiedBy>
  <dcterms:modified xsi:type="dcterms:W3CDTF">2015-07-22T09:15:58Z</dcterms:modified>
  <cp:revision>1</cp:revision>
  <dc:subject/>
  <dc:title>Slide 1</dc:title>
</cp:coreProperties>
</file>