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DA74-7F40-45AC-B8F4-9C79A10D5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3966-1F78-49D2-A9B7-45387C1B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C270-CE54-4324-829F-20D0A2E38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2B3C-5955-4FF6-A778-62380B020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B7EB-D910-4A17-91E4-F0351625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DB8D-379D-4A41-8FB3-8D3C305E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8245-9899-4B61-8D6A-B72152C2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A25D-0BC3-40EB-BBF7-CD3258C4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52E0-D098-4337-9325-865AA338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94F4-F073-41E8-B7C7-31F51905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C312-E0D9-4164-8BF1-D83283DE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4531-49BE-4336-94B5-484C0540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4CC9-4597-451F-ADF6-DAC80D181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eon-Guerrero_5e_Figure 16.1.jpg"/>
          <p:cNvPicPr/>
          <p:nvPr/>
        </p:nvPicPr>
        <p:blipFill>
          <a:blip r:embed="rId1"/>
          <a:stretch/>
        </p:blipFill>
        <p:spPr>
          <a:xfrm>
            <a:off x="450720" y="0"/>
            <a:ext cx="824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Leon-Guerrero_5e_Figure 16.2.jpg"/>
          <p:cNvPicPr/>
          <p:nvPr/>
        </p:nvPicPr>
        <p:blipFill>
          <a:blip r:embed="rId1"/>
          <a:stretch/>
        </p:blipFill>
        <p:spPr>
          <a:xfrm>
            <a:off x="528480" y="0"/>
            <a:ext cx="8085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Leon-Guerrero_5e_Figure 16.3.jpg"/>
          <p:cNvPicPr/>
          <p:nvPr/>
        </p:nvPicPr>
        <p:blipFill>
          <a:blip r:embed="rId1"/>
          <a:stretch/>
        </p:blipFill>
        <p:spPr>
          <a:xfrm>
            <a:off x="790560" y="0"/>
            <a:ext cx="756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Leon-Guerrero_5e_Figure 16.4.jpg"/>
          <p:cNvPicPr/>
          <p:nvPr/>
        </p:nvPicPr>
        <p:blipFill>
          <a:blip r:embed="rId1"/>
          <a:stretch/>
        </p:blipFill>
        <p:spPr>
          <a:xfrm>
            <a:off x="851040" y="0"/>
            <a:ext cx="744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Leon-Guerrero_5e_Table 16.1.jpg"/>
          <p:cNvPicPr/>
          <p:nvPr/>
        </p:nvPicPr>
        <p:blipFill>
          <a:blip r:embed="rId1"/>
          <a:stretch/>
        </p:blipFill>
        <p:spPr>
          <a:xfrm>
            <a:off x="1981080" y="0"/>
            <a:ext cx="518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Leon-Guerrero_5e_Table 16.2.jpg"/>
          <p:cNvPicPr/>
          <p:nvPr/>
        </p:nvPicPr>
        <p:blipFill>
          <a:blip r:embed="rId1"/>
          <a:stretch/>
        </p:blipFill>
        <p:spPr>
          <a:xfrm>
            <a:off x="1959120" y="0"/>
            <a:ext cx="522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Leon-Guerrero_5e_Table 16.3.jpg"/>
          <p:cNvPicPr/>
          <p:nvPr/>
        </p:nvPicPr>
        <p:blipFill>
          <a:blip r:embed="rId1"/>
          <a:stretch/>
        </p:blipFill>
        <p:spPr>
          <a:xfrm>
            <a:off x="371520" y="0"/>
            <a:ext cx="839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Leon-Guerrero_5e_Table 16.4.jpg"/>
          <p:cNvPicPr/>
          <p:nvPr/>
        </p:nvPicPr>
        <p:blipFill>
          <a:blip r:embed="rId1"/>
          <a:stretch/>
        </p:blipFill>
        <p:spPr>
          <a:xfrm>
            <a:off x="438120" y="0"/>
            <a:ext cx="826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2T09:14:37Z</dcterms:created>
  <dc:creator>conversion</dc:creator>
  <dc:description/>
  <dc:language>en-US</dc:language>
  <cp:lastModifiedBy>conversion</cp:lastModifiedBy>
  <dcterms:modified xsi:type="dcterms:W3CDTF">2015-07-22T09:15:29Z</dcterms:modified>
  <cp:revision>1</cp:revision>
  <dc:subject/>
  <dc:title>Slide 1</dc:title>
</cp:coreProperties>
</file>