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D75-64A1-4348-AC66-9E063007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A4D-3647-4D7D-998F-C339A24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B00-9AF4-4B26-A5DC-D99B1A4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CCC-5620-4C09-A9B5-9645E944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D13-14C4-49A9-A24A-61C1CE2D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6DF-00D2-4E41-9C43-0243B52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B62-22A2-491F-AA11-19F89C01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B84-0E02-4FAB-A8A8-9307BAB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A1E-C9EC-40AD-AB5F-DC088BF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737-01A7-40BB-83C5-FA85AD2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91E-93C5-4A4C-ACCE-5E66CAE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597-F0C8-4A8D-9F74-CB16E37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3B97-A4C6-406F-9A58-C9DDE46E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4.1.jpg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4.2.jpg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Table 14.1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Table 14.2.jpg"/>
          <p:cNvPicPr/>
          <p:nvPr/>
        </p:nvPicPr>
        <p:blipFill>
          <a:blip r:embed="rId1"/>
          <a:stretch/>
        </p:blipFill>
        <p:spPr>
          <a:xfrm>
            <a:off x="214956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14.3.jp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4.4.jpg"/>
          <p:cNvPicPr/>
          <p:nvPr/>
        </p:nvPicPr>
        <p:blipFill>
          <a:blip r:embed="rId1"/>
          <a:stretch/>
        </p:blipFill>
        <p:spPr>
          <a:xfrm>
            <a:off x="795240" y="0"/>
            <a:ext cx="755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4.5.jpg"/>
          <p:cNvPicPr/>
          <p:nvPr/>
        </p:nvPicPr>
        <p:blipFill>
          <a:blip r:embed="rId1"/>
          <a:stretch/>
        </p:blipFill>
        <p:spPr>
          <a:xfrm>
            <a:off x="0" y="1149480"/>
            <a:ext cx="9144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14.6.jpg"/>
          <p:cNvPicPr/>
          <p:nvPr/>
        </p:nvPicPr>
        <p:blipFill>
          <a:blip r:embed="rId1"/>
          <a:stretch/>
        </p:blipFill>
        <p:spPr>
          <a:xfrm>
            <a:off x="581040" y="0"/>
            <a:ext cx="798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Table 14.7.jpg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3:21Z</dcterms:created>
  <dc:creator>conversion</dc:creator>
  <dc:description/>
  <dc:language>en-US</dc:language>
  <cp:lastModifiedBy>conversion</cp:lastModifiedBy>
  <dcterms:modified xsi:type="dcterms:W3CDTF">2015-07-22T09:13:39Z</dcterms:modified>
  <cp:revision>1</cp:revision>
  <dc:subject/>
  <dc:title>Slide 1</dc:title>
</cp:coreProperties>
</file>