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E30-4A36-45AE-99D0-D8D6E59C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0C0-644C-4B61-BE60-0AB86737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05F-3538-4384-ABDB-C4F63B66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6F7-A00E-459C-87BE-1AF4927E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788-F684-4361-B2BC-3698D883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E07-D503-4975-831F-7DE049C9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B83-9297-4730-87E2-BFD5EAC4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E88-5DC0-4ECF-85CB-B111289B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B05-EF05-4B82-9965-4D85DB4E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A26-F666-4B3E-85EF-B4750751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A14-C1B3-4F7D-936E-65964A52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AE7-E43E-4214-BFDC-31D8901B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E84A-F710-4FAC-9D7E-B9F2CEE63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11.1.jpg"/>
          <p:cNvPicPr/>
          <p:nvPr/>
        </p:nvPicPr>
        <p:blipFill>
          <a:blip r:embed="rId1"/>
          <a:stretch/>
        </p:blipFill>
        <p:spPr>
          <a:xfrm>
            <a:off x="1440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11.2.jpg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11.3.jpg"/>
          <p:cNvPicPr/>
          <p:nvPr/>
        </p:nvPicPr>
        <p:blipFill>
          <a:blip r:embed="rId1"/>
          <a:stretch/>
        </p:blipFill>
        <p:spPr>
          <a:xfrm>
            <a:off x="861840" y="0"/>
            <a:ext cx="74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Figure 11.4.jpg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Figure 11.5.jpg"/>
          <p:cNvPicPr/>
          <p:nvPr/>
        </p:nvPicPr>
        <p:blipFill>
          <a:blip r:embed="rId1"/>
          <a:stretch/>
        </p:blipFill>
        <p:spPr>
          <a:xfrm>
            <a:off x="927000" y="0"/>
            <a:ext cx="728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Table 11.1.jpg"/>
          <p:cNvPicPr/>
          <p:nvPr/>
        </p:nvPicPr>
        <p:blipFill>
          <a:blip r:embed="rId1"/>
          <a:stretch/>
        </p:blipFill>
        <p:spPr>
          <a:xfrm>
            <a:off x="1235160" y="0"/>
            <a:ext cx="667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eon-Guerrero_5e_Table 11.2.jpg"/>
          <p:cNvPicPr/>
          <p:nvPr/>
        </p:nvPicPr>
        <p:blipFill>
          <a:blip r:embed="rId1"/>
          <a:stretch/>
        </p:blipFill>
        <p:spPr>
          <a:xfrm>
            <a:off x="0" y="905040"/>
            <a:ext cx="91440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10:47Z</dcterms:created>
  <dc:creator>conversion</dc:creator>
  <dc:description/>
  <dc:language>en-US</dc:language>
  <cp:lastModifiedBy>conversion</cp:lastModifiedBy>
  <dcterms:modified xsi:type="dcterms:W3CDTF">2015-07-22T09:11:05Z</dcterms:modified>
  <cp:revision>1</cp:revision>
  <dc:subject/>
  <dc:title>Slide 1</dc:title>
</cp:coreProperties>
</file>