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E3E-A0CC-44FC-ABC6-8F78B7F8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75A-47D5-4D3D-8B54-7DC0C212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4CE-3FC1-484C-874C-FD0F8B87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D36F-E2F6-4885-881F-F28D31B2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E33-6893-470E-86BC-6EBE1877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43E-46AB-4072-9F30-13C5AFCF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F0B-20C4-4DB4-A0CF-1CD62C3D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12F-AD87-40EE-9E11-52C65357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4F1E-C109-4B44-85B0-9CEB4FC3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029A-4C3F-479F-805A-58EF5409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875-2BF7-4F26-95A9-1EB834E0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211-A036-4232-9D83-CF2E5C21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45C4-0A66-4925-806D-154C90F70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eon-Guerrero_5e_Figure 10.1.jpg"/>
          <p:cNvPicPr/>
          <p:nvPr/>
        </p:nvPicPr>
        <p:blipFill>
          <a:blip r:embed="rId1"/>
          <a:stretch/>
        </p:blipFill>
        <p:spPr>
          <a:xfrm>
            <a:off x="249120" y="0"/>
            <a:ext cx="864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eon-Guerrero_5e_Figure 10.2.jpg"/>
          <p:cNvPicPr/>
          <p:nvPr/>
        </p:nvPicPr>
        <p:blipFill>
          <a:blip r:embed="rId1"/>
          <a:stretch/>
        </p:blipFill>
        <p:spPr>
          <a:xfrm>
            <a:off x="654120" y="0"/>
            <a:ext cx="783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eon-Guerrero_5e_Figure 10.3.jpg"/>
          <p:cNvPicPr/>
          <p:nvPr/>
        </p:nvPicPr>
        <p:blipFill>
          <a:blip r:embed="rId1"/>
          <a:stretch/>
        </p:blipFill>
        <p:spPr>
          <a:xfrm>
            <a:off x="439560" y="0"/>
            <a:ext cx="82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eon-Guerrero_5e_Figure 10.4.jpg"/>
          <p:cNvPicPr/>
          <p:nvPr/>
        </p:nvPicPr>
        <p:blipFill>
          <a:blip r:embed="rId1"/>
          <a:stretch/>
        </p:blipFill>
        <p:spPr>
          <a:xfrm>
            <a:off x="165240" y="0"/>
            <a:ext cx="881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Leon-Guerrero_5e_Figure 10.5.jpg"/>
          <p:cNvPicPr/>
          <p:nvPr/>
        </p:nvPicPr>
        <p:blipFill>
          <a:blip r:embed="rId1"/>
          <a:stretch/>
        </p:blipFill>
        <p:spPr>
          <a:xfrm>
            <a:off x="41904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Leon-Guerrero_5e_Table 10.1.jpg"/>
          <p:cNvPicPr/>
          <p:nvPr/>
        </p:nvPicPr>
        <p:blipFill>
          <a:blip r:embed="rId1"/>
          <a:stretch/>
        </p:blipFill>
        <p:spPr>
          <a:xfrm>
            <a:off x="82440" y="0"/>
            <a:ext cx="897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Leon-Guerrero_5e_Table 10.2.jpg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9:10:10Z</dcterms:created>
  <dc:creator>conversion</dc:creator>
  <dc:description/>
  <dc:language>en-US</dc:language>
  <cp:lastModifiedBy>conversion</cp:lastModifiedBy>
  <dcterms:modified xsi:type="dcterms:W3CDTF">2015-07-22T09:10:27Z</dcterms:modified>
  <cp:revision>1</cp:revision>
  <dc:subject/>
  <dc:title>Slide 1</dc:title>
</cp:coreProperties>
</file>